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4.wmf" ContentType="image/x-wmf"/>
  <Override PartName="/ppt/media/image15.wmf" ContentType="image/x-wmf"/>
  <Override PartName="/ppt/media/image11.png" ContentType="image/png"/>
  <Override PartName="/ppt/media/image39.png" ContentType="image/png"/>
  <Override PartName="/ppt/media/image9.png" ContentType="image/png"/>
  <Override PartName="/ppt/media/image34.png" ContentType="image/png"/>
  <Override PartName="/ppt/media/image40.jpeg" ContentType="image/jpeg"/>
  <Override PartName="/ppt/media/image13.wmf" ContentType="image/x-wmf"/>
  <Override PartName="/ppt/media/image7.jpeg" ContentType="image/jpeg"/>
  <Override PartName="/ppt/media/image28.png" ContentType="image/png"/>
  <Override PartName="/ppt/media/image12.gif" ContentType="image/gif"/>
  <Override PartName="/ppt/media/image30.png" ContentType="image/png"/>
  <Override PartName="/ppt/media/image37.jpeg" ContentType="image/jpeg"/>
  <Override PartName="/ppt/media/image31.png" ContentType="image/png"/>
  <Override PartName="/ppt/media/image32.png" ContentType="image/pn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385560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80640" y="1243080"/>
            <a:ext cx="48452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82960"/>
            <a:ext cx="54450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385560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894A-8EF8-4932-BA5C-AAC846D6C9C0}" type="slidenum">
              <a:rPr b="0" lang="es-B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81000" y="1243080"/>
            <a:ext cx="4845240" cy="33544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0760" y="4782960"/>
            <a:ext cx="54450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000000"/>
                </a:solidFill>
                <a:latin typeface="Calibri"/>
              </a:rPr>
              <a:t>Solo se modifica el texto y no las imá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81000" y="1243080"/>
            <a:ext cx="4845240" cy="33544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0760" y="4782960"/>
            <a:ext cx="54450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000000"/>
                </a:solidFill>
                <a:latin typeface="Calibri"/>
              </a:rPr>
              <a:t>No hacer modificaciones o inclus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7CC-40A3-492A-8AC5-4036F211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7E3-7AC2-422D-ACFE-21A23AA3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331-7603-4056-A9EA-3A0A5E70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98F-45C0-4D95-B2A6-5134E751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0F6AC-D861-4B62-BC27-9045617CE2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D2278-C7A0-4D3F-9CC2-C385F5427D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D7000-3263-4FBF-9BD0-1D87ADBE7E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8549A-AD72-48BD-A291-3D3E492780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C1E32-732D-42BF-AA6D-0C914C2CAB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F4F7D-ABD3-4733-B314-FDE3ACDD60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90EE8-E150-47FD-BF64-E9DBB8502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4FF-8590-405E-85B8-998BBF46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613CE-CE08-4024-B313-BB756F5152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4D854-E6BD-4C32-8B59-7DAA2CC866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5C9EB-3621-4CEF-9991-4498878B8A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D4F2C-60EA-413D-805F-6A0ABF4D8E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3EECC-6080-4C8A-92E1-712513DAC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425-54C1-4DDF-A781-8DF80832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27C-4EB0-4AB9-AB69-91F20147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67D-118B-43A4-B3A0-6EFD680E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26B-7072-4583-990B-66A65E88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F9F-1AEF-4B5C-BD4B-E715490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FE9-1853-4298-8A9A-EB1D7F0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E93-6581-4E17-B129-21B6D410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11C9-F00E-4DF9-83DC-556F0E528685}" type="datetime">
              <a:rPr b="0" lang="es-BO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898989"/>
                </a:solidFill>
                <a:latin typeface="Calibri"/>
              </a:rPr>
              <a:t>https://de.statista.com/statistik/daten/studie/460234/umfrage/ladestationen-fuer-elektroautos-in-deutschland-monatlich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5D55-FB8B-4D57-8B51-C1F3F6D24B9B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6"/>
          <p:cNvSpPr/>
          <p:nvPr/>
        </p:nvSpPr>
        <p:spPr>
          <a:xfrm>
            <a:off x="538200" y="6445080"/>
            <a:ext cx="21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Isabel Lawacze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rof. Dr. Ingo Stadler (TH Köln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200" spc="-1" strike="noStrike">
                <a:solidFill>
                  <a:srgbClr val="898989"/>
                </a:solidFill>
                <a:latin typeface="Calibri"/>
              </a:rPr>
              <a:t>https://de.statista.com/statistik/daten/studie/460234/umfrage/ladestationen-fuer-elektroautos-in-deutschland-monatlich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B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9DFC-C584-44E5-A2A2-0D6945B4A562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sp>
        <p:nvSpPr>
          <p:cNvPr id="90" name="CuadroTexto 1"/>
          <p:cNvSpPr/>
          <p:nvPr/>
        </p:nvSpPr>
        <p:spPr>
          <a:xfrm>
            <a:off x="3327480" y="4186080"/>
            <a:ext cx="644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xposit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 Prof. Dr. Ingo Stadle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 Universidad de Tecnología de Colo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uadroTexto 1"/>
          <p:cNvSpPr/>
          <p:nvPr/>
        </p:nvSpPr>
        <p:spPr>
          <a:xfrm>
            <a:off x="1627200" y="5983200"/>
            <a:ext cx="645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lonia, Alemani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13"/>
          <p:cNvSpPr/>
          <p:nvPr/>
        </p:nvSpPr>
        <p:spPr>
          <a:xfrm>
            <a:off x="723960" y="1327320"/>
            <a:ext cx="8810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secuencias para la operación de la red por parte de los generadores de energía renovable descentralizad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tipulaciones en las normativas alemanas sobre baja 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edia tensión, así como en las directrices técnic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723960" y="4324320"/>
            <a:ext cx="175716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Imagen 4" descr=""/>
          <p:cNvPicPr/>
          <p:nvPr/>
        </p:nvPicPr>
        <p:blipFill>
          <a:blip r:embed="rId4"/>
          <a:stretch/>
        </p:blipFill>
        <p:spPr>
          <a:xfrm>
            <a:off x="6942240" y="227016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96" name="Imagen 8" descr=""/>
          <p:cNvPicPr/>
          <p:nvPr/>
        </p:nvPicPr>
        <p:blipFill>
          <a:blip r:embed="rId5"/>
          <a:stretch/>
        </p:blipFill>
        <p:spPr>
          <a:xfrm>
            <a:off x="3200400" y="2270160"/>
            <a:ext cx="1635120" cy="1717560"/>
          </a:xfrm>
          <a:prstGeom prst="rect">
            <a:avLst/>
          </a:prstGeom>
          <a:ln w="0">
            <a:noFill/>
          </a:ln>
        </p:spPr>
      </p:pic>
      <p:pic>
        <p:nvPicPr>
          <p:cNvPr id="97" name="Imagen 16" descr=""/>
          <p:cNvPicPr/>
          <p:nvPr/>
        </p:nvPicPr>
        <p:blipFill>
          <a:blip r:embed="rId6"/>
          <a:stretch/>
        </p:blipFill>
        <p:spPr>
          <a:xfrm>
            <a:off x="723960" y="2276640"/>
            <a:ext cx="2413080" cy="1706400"/>
          </a:xfrm>
          <a:prstGeom prst="rect">
            <a:avLst/>
          </a:prstGeom>
          <a:ln w="0">
            <a:noFill/>
          </a:ln>
        </p:spPr>
      </p:pic>
      <p:pic>
        <p:nvPicPr>
          <p:cNvPr id="98" name="Imagen 18" descr=""/>
          <p:cNvPicPr/>
          <p:nvPr/>
        </p:nvPicPr>
        <p:blipFill>
          <a:blip r:embed="rId7"/>
          <a:stretch/>
        </p:blipFill>
        <p:spPr>
          <a:xfrm>
            <a:off x="4898880" y="2276640"/>
            <a:ext cx="1979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6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6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56F3-E6C5-401E-8A48-A504E6CC3B1D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feld 9"/>
          <p:cNvSpPr/>
          <p:nvPr/>
        </p:nvSpPr>
        <p:spPr>
          <a:xfrm>
            <a:off x="3179880" y="59220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limitaciones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Grafik 2" descr=""/>
          <p:cNvPicPr/>
          <p:nvPr/>
        </p:nvPicPr>
        <p:blipFill>
          <a:blip r:embed="rId3"/>
          <a:stretch/>
        </p:blipFill>
        <p:spPr>
          <a:xfrm>
            <a:off x="1409760" y="4676760"/>
            <a:ext cx="1131840" cy="1521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1"/>
          <p:cNvSpPr/>
          <p:nvPr/>
        </p:nvSpPr>
        <p:spPr>
          <a:xfrm>
            <a:off x="1514160" y="5386320"/>
            <a:ext cx="50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10k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321"/>
          <p:cNvSpPr/>
          <p:nvPr/>
        </p:nvSpPr>
        <p:spPr>
          <a:xfrm>
            <a:off x="1475280" y="5942160"/>
            <a:ext cx="54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0,4k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limitaciones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158"/>
          <p:cNvSpPr/>
          <p:nvPr/>
        </p:nvSpPr>
        <p:spPr>
          <a:xfrm>
            <a:off x="1598760" y="2890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7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7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8D05-DF4E-4E3E-8AD8-D48DB0076FD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feld 9"/>
          <p:cNvSpPr/>
          <p:nvPr/>
        </p:nvSpPr>
        <p:spPr>
          <a:xfrm>
            <a:off x="3179880" y="59220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feld 4"/>
          <p:cNvSpPr/>
          <p:nvPr/>
        </p:nvSpPr>
        <p:spPr>
          <a:xfrm>
            <a:off x="6156360" y="2031840"/>
            <a:ext cx="3573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uando el transformador de alta a media tensión está al 104% se mantiene el ±10% co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Fila de carga (string) elevad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5% de caída del voltaje en la red de baja tens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% en el transformador del sistema de distribu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5% en la red de media tens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% de reserva de segur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tring de alimentación elevad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% de caída de voltaje en la red de baja tensión incluido el transform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2% de caída del voltaje en la red de media tens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% de re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1"/>
          <p:cNvSpPr/>
          <p:nvPr/>
        </p:nvSpPr>
        <p:spPr>
          <a:xfrm>
            <a:off x="1978200" y="2286000"/>
            <a:ext cx="5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k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2"/>
          <p:cNvSpPr/>
          <p:nvPr/>
        </p:nvSpPr>
        <p:spPr>
          <a:xfrm rot="16200000">
            <a:off x="1957320" y="3173040"/>
            <a:ext cx="1258920" cy="277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126"/>
          <p:cNvGrpSpPr/>
          <p:nvPr/>
        </p:nvGrpSpPr>
        <p:grpSpPr>
          <a:xfrm>
            <a:off x="966960" y="2683440"/>
            <a:ext cx="643680" cy="416880"/>
            <a:chOff x="966960" y="2683440"/>
            <a:chExt cx="643680" cy="416880"/>
          </a:xfrm>
        </p:grpSpPr>
        <p:sp>
          <p:nvSpPr>
            <p:cNvPr id="181" name="Oval 127"/>
            <p:cNvSpPr/>
            <p:nvPr/>
          </p:nvSpPr>
          <p:spPr>
            <a:xfrm rot="16200000">
              <a:off x="959400" y="2690640"/>
              <a:ext cx="416880" cy="40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Oval 128"/>
            <p:cNvSpPr/>
            <p:nvPr/>
          </p:nvSpPr>
          <p:spPr>
            <a:xfrm rot="16200000">
              <a:off x="1200960" y="2690640"/>
              <a:ext cx="416880" cy="40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Line 154"/>
          <p:cNvSpPr/>
          <p:nvPr/>
        </p:nvSpPr>
        <p:spPr>
          <a:xfrm flipV="1">
            <a:off x="519120" y="290520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Gerade Verbindung mit Pfeil 74"/>
          <p:cNvCxnSpPr/>
          <p:nvPr/>
        </p:nvCxnSpPr>
        <p:spPr>
          <a:xfrm>
            <a:off x="1723680" y="2890440"/>
            <a:ext cx="6260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5" name="Gruppieren 55"/>
          <p:cNvGrpSpPr/>
          <p:nvPr/>
        </p:nvGrpSpPr>
        <p:grpSpPr>
          <a:xfrm>
            <a:off x="2717640" y="2286000"/>
            <a:ext cx="3619080" cy="928440"/>
            <a:chOff x="2717640" y="2286000"/>
            <a:chExt cx="3619080" cy="928440"/>
          </a:xfrm>
        </p:grpSpPr>
        <p:sp>
          <p:nvSpPr>
            <p:cNvPr id="186" name="Text Box 321"/>
            <p:cNvSpPr/>
            <p:nvPr/>
          </p:nvSpPr>
          <p:spPr>
            <a:xfrm>
              <a:off x="3618720" y="22860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0,4k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feld 22"/>
            <p:cNvSpPr/>
            <p:nvPr/>
          </p:nvSpPr>
          <p:spPr>
            <a:xfrm>
              <a:off x="4246560" y="2481120"/>
              <a:ext cx="209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mentador 1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o nivel de carga, p.ej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efacción eléct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" name="Group 183"/>
            <p:cNvGrpSpPr/>
            <p:nvPr/>
          </p:nvGrpSpPr>
          <p:grpSpPr>
            <a:xfrm>
              <a:off x="2917440" y="2641680"/>
              <a:ext cx="641880" cy="417960"/>
              <a:chOff x="2917440" y="2641680"/>
              <a:chExt cx="641880" cy="417960"/>
            </a:xfrm>
          </p:grpSpPr>
          <p:sp>
            <p:nvSpPr>
              <p:cNvPr id="189" name="Oval 184"/>
              <p:cNvSpPr/>
              <p:nvPr/>
            </p:nvSpPr>
            <p:spPr>
              <a:xfrm rot="16200000">
                <a:off x="2908800" y="2649960"/>
                <a:ext cx="417960" cy="401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Oval 185"/>
              <p:cNvSpPr/>
              <p:nvPr/>
            </p:nvSpPr>
            <p:spPr>
              <a:xfrm rot="16200000">
                <a:off x="3149640" y="2649960"/>
                <a:ext cx="417960" cy="401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Group 246"/>
            <p:cNvGrpSpPr/>
            <p:nvPr/>
          </p:nvGrpSpPr>
          <p:grpSpPr>
            <a:xfrm>
              <a:off x="3749040" y="2683080"/>
              <a:ext cx="340200" cy="354600"/>
              <a:chOff x="3749040" y="2683080"/>
              <a:chExt cx="340200" cy="354600"/>
            </a:xfrm>
          </p:grpSpPr>
          <p:sp>
            <p:nvSpPr>
              <p:cNvPr id="192" name="Rectangle 247"/>
              <p:cNvSpPr/>
              <p:nvPr/>
            </p:nvSpPr>
            <p:spPr>
              <a:xfrm rot="16200000">
                <a:off x="3741840" y="2690280"/>
                <a:ext cx="354600" cy="340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48"/>
              <p:cNvSpPr/>
              <p:nvPr/>
            </p:nvSpPr>
            <p:spPr>
              <a:xfrm flipV="1">
                <a:off x="3749040" y="2683080"/>
                <a:ext cx="336960" cy="35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49"/>
              <p:cNvSpPr/>
              <p:nvPr/>
            </p:nvSpPr>
            <p:spPr>
              <a:xfrm flipH="1" flipV="1">
                <a:off x="3749040" y="2687040"/>
                <a:ext cx="33696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Line 292"/>
            <p:cNvSpPr/>
            <p:nvPr/>
          </p:nvSpPr>
          <p:spPr>
            <a:xfrm>
              <a:off x="2717640" y="2860200"/>
              <a:ext cx="18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293"/>
            <p:cNvSpPr/>
            <p:nvPr/>
          </p:nvSpPr>
          <p:spPr>
            <a:xfrm>
              <a:off x="3542760" y="284436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7" name="Gerade Verbindung mit Pfeil 75"/>
            <p:cNvCxnSpPr/>
            <p:nvPr/>
          </p:nvCxnSpPr>
          <p:spPr>
            <a:xfrm>
              <a:off x="3236040" y="2850840"/>
              <a:ext cx="626040" cy="3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98" name="Gerade Verbindung mit Pfeil 102"/>
          <p:cNvCxnSpPr/>
          <p:nvPr/>
        </p:nvCxnSpPr>
        <p:spPr>
          <a:xfrm flipV="1">
            <a:off x="966960" y="2461320"/>
            <a:ext cx="645120" cy="801000"/>
          </a:xfrm>
          <a:prstGeom prst="straightConnector1">
            <a:avLst/>
          </a:prstGeom>
          <a:ln w="38160">
            <a:solidFill>
              <a:srgbClr val="cc0099"/>
            </a:solidFill>
            <a:miter/>
            <a:tailEnd len="med" type="arrow" w="med"/>
          </a:ln>
        </p:spPr>
      </p:cxnSp>
      <p:grpSp>
        <p:nvGrpSpPr>
          <p:cNvPr id="199" name="Gruppieren 56"/>
          <p:cNvGrpSpPr/>
          <p:nvPr/>
        </p:nvGrpSpPr>
        <p:grpSpPr>
          <a:xfrm>
            <a:off x="2628720" y="3354480"/>
            <a:ext cx="3699360" cy="1212480"/>
            <a:chOff x="2628720" y="3354480"/>
            <a:chExt cx="3699360" cy="1212480"/>
          </a:xfrm>
        </p:grpSpPr>
        <p:grpSp>
          <p:nvGrpSpPr>
            <p:cNvPr id="200" name="Group 180"/>
            <p:cNvGrpSpPr/>
            <p:nvPr/>
          </p:nvGrpSpPr>
          <p:grpSpPr>
            <a:xfrm>
              <a:off x="2916720" y="3522960"/>
              <a:ext cx="642240" cy="418320"/>
              <a:chOff x="2916720" y="3522960"/>
              <a:chExt cx="642240" cy="418320"/>
            </a:xfrm>
          </p:grpSpPr>
          <p:sp>
            <p:nvSpPr>
              <p:cNvPr id="201" name="Oval 181"/>
              <p:cNvSpPr/>
              <p:nvPr/>
            </p:nvSpPr>
            <p:spPr>
              <a:xfrm rot="16200000">
                <a:off x="2908080" y="3531600"/>
                <a:ext cx="418320" cy="401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Oval 182"/>
              <p:cNvSpPr/>
              <p:nvPr/>
            </p:nvSpPr>
            <p:spPr>
              <a:xfrm rot="16200000">
                <a:off x="3149280" y="3531600"/>
                <a:ext cx="418320" cy="401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3" name="Group 242"/>
            <p:cNvGrpSpPr/>
            <p:nvPr/>
          </p:nvGrpSpPr>
          <p:grpSpPr>
            <a:xfrm>
              <a:off x="3748320" y="3544920"/>
              <a:ext cx="340920" cy="354600"/>
              <a:chOff x="3748320" y="3544920"/>
              <a:chExt cx="340920" cy="354600"/>
            </a:xfrm>
          </p:grpSpPr>
          <p:sp>
            <p:nvSpPr>
              <p:cNvPr id="204" name="Rectangle 243"/>
              <p:cNvSpPr/>
              <p:nvPr/>
            </p:nvSpPr>
            <p:spPr>
              <a:xfrm rot="16200000">
                <a:off x="3741480" y="3551760"/>
                <a:ext cx="354600" cy="34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Line 244"/>
              <p:cNvSpPr/>
              <p:nvPr/>
            </p:nvSpPr>
            <p:spPr>
              <a:xfrm flipV="1">
                <a:off x="3748680" y="3544920"/>
                <a:ext cx="337320" cy="35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Line 245"/>
              <p:cNvSpPr/>
              <p:nvPr/>
            </p:nvSpPr>
            <p:spPr>
              <a:xfrm flipH="1" flipV="1">
                <a:off x="3748320" y="3548880"/>
                <a:ext cx="33732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7" name="Line 290"/>
            <p:cNvSpPr/>
            <p:nvPr/>
          </p:nvSpPr>
          <p:spPr>
            <a:xfrm>
              <a:off x="2724480" y="3749400"/>
              <a:ext cx="18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91"/>
            <p:cNvSpPr/>
            <p:nvPr/>
          </p:nvSpPr>
          <p:spPr>
            <a:xfrm>
              <a:off x="3550320" y="3733560"/>
              <a:ext cx="19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9" name="Gerade Verbindung mit Pfeil 73"/>
            <p:cNvCxnSpPr/>
            <p:nvPr/>
          </p:nvCxnSpPr>
          <p:spPr>
            <a:xfrm>
              <a:off x="3324600" y="3715920"/>
              <a:ext cx="624600" cy="3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0" name="Line 146"/>
            <p:cNvSpPr/>
            <p:nvPr/>
          </p:nvSpPr>
          <p:spPr>
            <a:xfrm>
              <a:off x="2831040" y="3748680"/>
              <a:ext cx="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feld 41"/>
            <p:cNvSpPr/>
            <p:nvPr/>
          </p:nvSpPr>
          <p:spPr>
            <a:xfrm>
              <a:off x="4240800" y="3354480"/>
              <a:ext cx="208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imentador 2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o nivel de gener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dad, p.ej. FV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2" name="Gruppieren 45"/>
            <p:cNvGrpSpPr/>
            <p:nvPr/>
          </p:nvGrpSpPr>
          <p:grpSpPr>
            <a:xfrm>
              <a:off x="2628720" y="3926520"/>
              <a:ext cx="403920" cy="640440"/>
              <a:chOff x="2628720" y="3926520"/>
              <a:chExt cx="403920" cy="640440"/>
            </a:xfrm>
          </p:grpSpPr>
          <p:grpSp>
            <p:nvGrpSpPr>
              <p:cNvPr id="213" name="Group 102"/>
              <p:cNvGrpSpPr/>
              <p:nvPr/>
            </p:nvGrpSpPr>
            <p:grpSpPr>
              <a:xfrm>
                <a:off x="2628720" y="3926520"/>
                <a:ext cx="400680" cy="640440"/>
                <a:chOff x="2628720" y="3926520"/>
                <a:chExt cx="400680" cy="640440"/>
              </a:xfrm>
            </p:grpSpPr>
            <p:sp>
              <p:nvSpPr>
                <p:cNvPr id="214" name="Oval 103"/>
                <p:cNvSpPr/>
                <p:nvPr/>
              </p:nvSpPr>
              <p:spPr>
                <a:xfrm rot="16200000">
                  <a:off x="2620080" y="4020840"/>
                  <a:ext cx="417960" cy="4006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Text Box 104"/>
                <p:cNvSpPr/>
                <p:nvPr/>
              </p:nvSpPr>
              <p:spPr>
                <a:xfrm rot="16200000">
                  <a:off x="2512080" y="4078440"/>
                  <a:ext cx="6404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6" name="Textfeld 44"/>
              <p:cNvSpPr/>
              <p:nvPr/>
            </p:nvSpPr>
            <p:spPr>
              <a:xfrm>
                <a:off x="2629440" y="399744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MyriadRegular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7" name="Freihandform 97"/>
          <p:cNvSpPr/>
          <p:nvPr/>
        </p:nvSpPr>
        <p:spPr>
          <a:xfrm>
            <a:off x="1593720" y="4557600"/>
            <a:ext cx="3591000" cy="660600"/>
          </a:xfrm>
          <a:custGeom>
            <a:avLst/>
            <a:gdLst>
              <a:gd name="textAreaLeft" fmla="*/ 0 w 3591000"/>
              <a:gd name="textAreaRight" fmla="*/ 3591360 w 35910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807494" h="678656">
                <a:moveTo>
                  <a:pt x="0" y="678656"/>
                </a:moveTo>
                <a:lnTo>
                  <a:pt x="1685925" y="492919"/>
                </a:lnTo>
                <a:lnTo>
                  <a:pt x="1857375" y="328613"/>
                </a:lnTo>
                <a:lnTo>
                  <a:pt x="2807494" y="0"/>
                </a:lnTo>
                <a:lnTo>
                  <a:pt x="279320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uppieren 57"/>
          <p:cNvGrpSpPr/>
          <p:nvPr/>
        </p:nvGrpSpPr>
        <p:grpSpPr>
          <a:xfrm>
            <a:off x="839880" y="4440240"/>
            <a:ext cx="749160" cy="2020680"/>
            <a:chOff x="839880" y="4440240"/>
            <a:chExt cx="749160" cy="2020680"/>
          </a:xfrm>
        </p:grpSpPr>
        <p:sp>
          <p:nvSpPr>
            <p:cNvPr id="219" name="Gerade Verbindung 95"/>
            <p:cNvSpPr/>
            <p:nvPr/>
          </p:nvSpPr>
          <p:spPr>
            <a:xfrm>
              <a:off x="1589040" y="4560120"/>
              <a:ext cx="0" cy="176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 Box 61"/>
            <p:cNvSpPr/>
            <p:nvPr/>
          </p:nvSpPr>
          <p:spPr>
            <a:xfrm>
              <a:off x="839880" y="4440240"/>
              <a:ext cx="57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+10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61"/>
            <p:cNvSpPr/>
            <p:nvPr/>
          </p:nvSpPr>
          <p:spPr>
            <a:xfrm>
              <a:off x="845280" y="61844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61"/>
            <p:cNvSpPr/>
            <p:nvPr/>
          </p:nvSpPr>
          <p:spPr>
            <a:xfrm>
              <a:off x="927720" y="5093640"/>
              <a:ext cx="48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+4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uppieren 58"/>
          <p:cNvGrpSpPr/>
          <p:nvPr/>
        </p:nvGrpSpPr>
        <p:grpSpPr>
          <a:xfrm>
            <a:off x="1595520" y="4406760"/>
            <a:ext cx="3894120" cy="2054520"/>
            <a:chOff x="1595520" y="4406760"/>
            <a:chExt cx="3894120" cy="2054520"/>
          </a:xfrm>
        </p:grpSpPr>
        <p:sp>
          <p:nvSpPr>
            <p:cNvPr id="224" name="Freihandform 98"/>
            <p:cNvSpPr/>
            <p:nvPr/>
          </p:nvSpPr>
          <p:spPr>
            <a:xfrm flipV="1">
              <a:off x="1595520" y="5206320"/>
              <a:ext cx="3590280" cy="1123200"/>
            </a:xfrm>
            <a:custGeom>
              <a:avLst/>
              <a:gdLst>
                <a:gd name="textAreaLeft" fmla="*/ 0 w 3590280"/>
                <a:gd name="textAreaRight" fmla="*/ 3590640 w 3590280"/>
                <a:gd name="textAreaTop" fmla="*/ 360 h 1123200"/>
                <a:gd name="textAreaBottom" fmla="*/ 1123920 h 1123200"/>
              </a:gdLst>
              <a:ahLst/>
              <a:rect l="textAreaLeft" t="textAreaTop" r="textAreaRight" b="textAreaBottom"/>
              <a:pathLst>
                <a:path w="2807494" h="678656">
                  <a:moveTo>
                    <a:pt x="0" y="678656"/>
                  </a:moveTo>
                  <a:lnTo>
                    <a:pt x="1685925" y="492919"/>
                  </a:lnTo>
                  <a:lnTo>
                    <a:pt x="1857375" y="328613"/>
                  </a:lnTo>
                  <a:lnTo>
                    <a:pt x="2807494" y="0"/>
                  </a:lnTo>
                  <a:lnTo>
                    <a:pt x="279320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feld 111"/>
            <p:cNvSpPr/>
            <p:nvPr/>
          </p:nvSpPr>
          <p:spPr>
            <a:xfrm>
              <a:off x="1940400" y="4519080"/>
              <a:ext cx="1553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viaciones en la red de media tens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feld 112"/>
            <p:cNvSpPr/>
            <p:nvPr/>
          </p:nvSpPr>
          <p:spPr>
            <a:xfrm>
              <a:off x="4093560" y="5054040"/>
              <a:ext cx="139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viaciones en la red de baja tens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Gerade Verbindung 50"/>
            <p:cNvSpPr/>
            <p:nvPr/>
          </p:nvSpPr>
          <p:spPr>
            <a:xfrm>
              <a:off x="3737880" y="4406760"/>
              <a:ext cx="28080" cy="2054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Gerade Verbindung 53"/>
            <p:cNvSpPr/>
            <p:nvPr/>
          </p:nvSpPr>
          <p:spPr>
            <a:xfrm>
              <a:off x="3967920" y="4406760"/>
              <a:ext cx="21960" cy="2054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feld 115"/>
            <p:cNvSpPr/>
            <p:nvPr/>
          </p:nvSpPr>
          <p:spPr>
            <a:xfrm rot="16200000">
              <a:off x="3087000" y="5117040"/>
              <a:ext cx="1744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viaciones en el transform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0760" y="2127240"/>
            <a:ext cx="85438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en las directivas para la red de baja y media ten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3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4CAF-B100-49A8-84D5-2B9B9C23F07A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36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6CB0-97E7-4349-83C0-8D21AB0400DD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oluciones técnicas para superar las limitaciones, incumplimiento de límite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inversores FV pueden inyectar corrientes reactivas para influir en el voltaje y mantenerlo dentro del límite de ±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hteck 2"/>
          <p:cNvSpPr/>
          <p:nvPr/>
        </p:nvSpPr>
        <p:spPr>
          <a:xfrm>
            <a:off x="681120" y="2682720"/>
            <a:ext cx="8381880" cy="792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4330800" y="3303720"/>
          <a:ext cx="1863720" cy="29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0800" y="3303720"/>
                    <a:ext cx="186372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3"/>
          <p:cNvGraphicFramePr/>
          <p:nvPr/>
        </p:nvGraphicFramePr>
        <p:xfrm>
          <a:off x="6673680" y="3303720"/>
          <a:ext cx="1849680" cy="29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73680" y="3303720"/>
                    <a:ext cx="184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5"/>
          <p:cNvSpPr/>
          <p:nvPr/>
        </p:nvSpPr>
        <p:spPr>
          <a:xfrm>
            <a:off x="3988800" y="6245280"/>
            <a:ext cx="24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imentación de energía a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283080" y="6262560"/>
            <a:ext cx="25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imentación de energía rea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338040" y="3657600"/>
          <a:ext cx="3438720" cy="119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040" y="3657600"/>
                    <a:ext cx="343872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Grafik 4" descr=""/>
          <p:cNvPicPr/>
          <p:nvPr/>
        </p:nvPicPr>
        <p:blipFill>
          <a:blip r:embed="rId1"/>
          <a:stretch/>
        </p:blipFill>
        <p:spPr>
          <a:xfrm>
            <a:off x="681120" y="2131920"/>
            <a:ext cx="7265880" cy="4407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5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F4A2-5B9A-4E56-94B7-1CA6A76209BA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0760" y="1500120"/>
            <a:ext cx="854388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oluciones técnicas para superar las limitaciones, incumplimiento de límite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feld 5"/>
          <p:cNvSpPr/>
          <p:nvPr/>
        </p:nvSpPr>
        <p:spPr>
          <a:xfrm>
            <a:off x="7640640" y="6134040"/>
            <a:ext cx="119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Fuente: Degn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56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57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3451-FF74-4DCE-BC37-655BB328CDFF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ra unidades de generación con una potencia aparente de 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el punto de conexión a la r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ntro de 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ro sin ninguna especificación del operador de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1030320" y="2952720"/>
                <a:ext cx="1752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036800" y="4465800"/>
                <a:ext cx="20714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d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"/>
              <p:cNvSpPr txBox="1"/>
              <p:nvPr/>
            </p:nvSpPr>
            <p:spPr>
              <a:xfrm>
                <a:off x="1030320" y="5340240"/>
                <a:ext cx="206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Grafik 2" descr=""/>
          <p:cNvPicPr/>
          <p:nvPr/>
        </p:nvPicPr>
        <p:blipFill>
          <a:blip r:embed="rId1"/>
          <a:stretch/>
        </p:blipFill>
        <p:spPr>
          <a:xfrm>
            <a:off x="5832360" y="2522520"/>
            <a:ext cx="3861000" cy="3321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65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66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1803-EA90-4AE5-B7EB-18E4C3E2A0C2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ra unidades de generación con una potencia aparente de 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el punto de conexión a la r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ntro de 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gún una curva característica proporcionada por el operador de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"/>
              <p:cNvSpPr txBox="1"/>
              <p:nvPr/>
            </p:nvSpPr>
            <p:spPr>
              <a:xfrm>
                <a:off x="993600" y="2927520"/>
                <a:ext cx="31258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≤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993600" y="4430880"/>
                <a:ext cx="20926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d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995400" y="5397480"/>
                <a:ext cx="2092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rafik 4" descr=""/>
          <p:cNvPicPr/>
          <p:nvPr/>
        </p:nvPicPr>
        <p:blipFill>
          <a:blip r:embed="rId1"/>
          <a:stretch/>
        </p:blipFill>
        <p:spPr>
          <a:xfrm>
            <a:off x="5792760" y="2657520"/>
            <a:ext cx="3984480" cy="3249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74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7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6DAF-E036-4B07-8959-F52394709687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ra unidades de generación con una potencia aparente de 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el punto de conexión a la r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ntro de 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gún una curva característica proporcionada por el operador de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5"/>
              <p:cNvSpPr txBox="1"/>
              <p:nvPr/>
            </p:nvSpPr>
            <p:spPr>
              <a:xfrm>
                <a:off x="982800" y="2914560"/>
                <a:ext cx="18493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982800" y="4456080"/>
                <a:ext cx="18986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d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982800" y="5388120"/>
                <a:ext cx="18158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excit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Grafik 2" descr=""/>
          <p:cNvPicPr/>
          <p:nvPr/>
        </p:nvPicPr>
        <p:blipFill>
          <a:blip r:embed="rId1"/>
          <a:stretch/>
        </p:blipFill>
        <p:spPr>
          <a:xfrm>
            <a:off x="681120" y="2271600"/>
            <a:ext cx="5688000" cy="4267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8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C666-AB8E-4C1C-AF62-FDCD71F533FA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feld 5"/>
          <p:cNvSpPr/>
          <p:nvPr/>
        </p:nvSpPr>
        <p:spPr>
          <a:xfrm>
            <a:off x="4205160" y="6018120"/>
            <a:ext cx="124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VD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feld 6"/>
          <p:cNvSpPr/>
          <p:nvPr/>
        </p:nvSpPr>
        <p:spPr>
          <a:xfrm>
            <a:off x="6369120" y="2887560"/>
            <a:ext cx="306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rvas características ejemplares para el suministro de potencia re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90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9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27EF-0EC9-4AA4-9A86-E876580E0CB7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jemplo: Los ajustes de fábrica del inversor S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7256520" y="6219720"/>
            <a:ext cx="124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SM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Grafik 4" descr=""/>
          <p:cNvPicPr/>
          <p:nvPr/>
        </p:nvPicPr>
        <p:blipFill>
          <a:blip r:embed="rId3"/>
          <a:stretch/>
        </p:blipFill>
        <p:spPr>
          <a:xfrm>
            <a:off x="782640" y="2886120"/>
            <a:ext cx="64738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0760" y="1774800"/>
            <a:ext cx="8543880" cy="42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osibles restricciones en las redes de distribución con la generación de energía descentraliz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bservaciones sobre posibles restricciones en las normativas para la redes de baja y media ten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Éxito de la generación descentralizada de energía y sus consecuencias para el control de la frecu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Últimas adaptaciones políticas de la Ley Alemana de Energías Renovables y recomendaciones para completar el proceso de transición energét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0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8645-2FA3-45A7-AFE4-7FBE12262A82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feld 3"/>
          <p:cNvSpPr/>
          <p:nvPr/>
        </p:nvSpPr>
        <p:spPr>
          <a:xfrm>
            <a:off x="538200" y="6445080"/>
            <a:ext cx="21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Isabel Lawacze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Prof. Dr. Ingo Stadler(TH Colonia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feld 9"/>
          <p:cNvSpPr/>
          <p:nvPr/>
        </p:nvSpPr>
        <p:spPr>
          <a:xfrm>
            <a:off x="3051000" y="790560"/>
            <a:ext cx="50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29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29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C615-9948-498B-BDBE-3267B4ACCB8B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requiere un sobredimensionamiento debido al suministro de energía re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feld 5"/>
          <p:cNvSpPr/>
          <p:nvPr/>
        </p:nvSpPr>
        <p:spPr>
          <a:xfrm>
            <a:off x="4465800" y="6056280"/>
            <a:ext cx="124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KAC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Grafik 4" descr=""/>
          <p:cNvPicPr/>
          <p:nvPr/>
        </p:nvPicPr>
        <p:blipFill>
          <a:blip r:embed="rId3"/>
          <a:stretch/>
        </p:blipFill>
        <p:spPr>
          <a:xfrm>
            <a:off x="681120" y="2857680"/>
            <a:ext cx="4611600" cy="31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3" name="Object 1"/>
              <p:cNvSpPr txBox="1"/>
              <p:nvPr/>
            </p:nvSpPr>
            <p:spPr>
              <a:xfrm>
                <a:off x="5438880" y="2860560"/>
                <a:ext cx="4038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5405400" y="4724280"/>
                <a:ext cx="41562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5478480" y="5483160"/>
                <a:ext cx="18493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5478480" y="3525840"/>
                <a:ext cx="31258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≤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7" name="Ellipse 16"/>
          <p:cNvSpPr/>
          <p:nvPr/>
        </p:nvSpPr>
        <p:spPr>
          <a:xfrm>
            <a:off x="8794800" y="4843440"/>
            <a:ext cx="26352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llipse 17"/>
          <p:cNvSpPr/>
          <p:nvPr/>
        </p:nvSpPr>
        <p:spPr>
          <a:xfrm>
            <a:off x="8756640" y="2968560"/>
            <a:ext cx="263520" cy="381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Grafik 2" descr=""/>
          <p:cNvPicPr/>
          <p:nvPr/>
        </p:nvPicPr>
        <p:blipFill>
          <a:blip r:embed="rId1"/>
          <a:stretch/>
        </p:blipFill>
        <p:spPr>
          <a:xfrm>
            <a:off x="681120" y="2463840"/>
            <a:ext cx="4992480" cy="3786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11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1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A8AC-B828-4322-BC67-19432E34227A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0760" y="189828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feld 5"/>
          <p:cNvSpPr/>
          <p:nvPr/>
        </p:nvSpPr>
        <p:spPr>
          <a:xfrm>
            <a:off x="538200" y="6018120"/>
            <a:ext cx="124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IW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feld 6"/>
          <p:cNvSpPr/>
          <p:nvPr/>
        </p:nvSpPr>
        <p:spPr>
          <a:xfrm>
            <a:off x="5979960" y="2487600"/>
            <a:ext cx="33498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pacidades de energía reactiva del generador de energía renovable en condiciones de carga pa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1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E1E9-E80C-46AE-824C-A0C904164CA0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0760" y="1579680"/>
            <a:ext cx="85438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 la carga de instalaciones y problemas de cuellos de botell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unidades de generación deben poder funcionar con una alimentación de energía reduc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operadores de la red pueden disminuir la alimentación de energía o incluso apagar las unidades de generación cuando se da una de las siguientes circunstanci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iesgo para la operación segura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 / sobrecarga de la infraestructura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iesgo de funcionamiento en isla (efecto islandi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iesgo para la estabilidad estática o dinámica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umento peligroso de la frecuenc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bajos de mantenimiento o de construc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aplicación práctica se realiza mediante señales de control remoto con 4 contactos (100%, 60%, 30% o 0% de la potencia nomin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23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2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56AD-8D3D-483E-B11A-B2D2C1142AD9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1120" y="1827000"/>
            <a:ext cx="86709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La Ley de Energías Renovables con respecto a la carga de instalaciones y problemas de cuellos de botella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Previa solicitud, los operadores de red deben optimizar/ampliar inmediatamente sus redes conforme al nivel actual de la tecnología para asegurar la compra/distribución de la electricidad a partir de las energías renovabl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Compensación financiera para el propietario del generador en caso de que el operador de la red disminuya la alimentación de energí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Unidades de generación con una potencia de corriente continua de menos de 30 kW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operador puede controlar la energía de forma remo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No hace falta transmitir la alimentación r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lternativamente, para este tipo de potencia, el operador de la unidad de genera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uede montar en el generador de energía fotovoltaica un inversor que sólo suminist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70% del generador fotovoltaico de corriente continua </a:t>
            </a:r>
            <a:r>
              <a:rPr b="0" lang="es-ES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7: Ministerio Alemán de Justicia y Protección de los Consumidores; Ley EEG 2017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Grafik 12" descr="blitz.jpg"/>
          <p:cNvPicPr/>
          <p:nvPr/>
        </p:nvPicPr>
        <p:blipFill>
          <a:blip r:embed="rId3"/>
          <a:stretch/>
        </p:blipFill>
        <p:spPr>
          <a:xfrm>
            <a:off x="8361360" y="5307120"/>
            <a:ext cx="701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30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3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603-F740-4C2A-9F75-32EC9B89C997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1120" y="1450440"/>
            <a:ext cx="45640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0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La VDE-AR-N 4105 se aplica a los sistemas &lt; 135 kW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Los reglamentos se aplican ahora también a los sistemas de almacenamient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Se complementa la clasifica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Tipo 1: todos los sistemas de generación con generadores síncronos acoplados directamente (principalmente grandes unidades de cogeneración con mo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Tipo 2: todos los demás sistemas de generación que están conectados a la red a través de un inversor o un generador asíncrono </a:t>
            </a:r>
            <a:r>
              <a:rPr b="0" lang="es-ES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;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feld 11"/>
          <p:cNvSpPr/>
          <p:nvPr/>
        </p:nvSpPr>
        <p:spPr>
          <a:xfrm>
            <a:off x="2646360" y="642312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Grafik 12" descr=""/>
          <p:cNvPicPr/>
          <p:nvPr/>
        </p:nvPicPr>
        <p:blipFill>
          <a:blip r:embed="rId3"/>
          <a:srcRect l="12837" t="7155" r="12539" b="4442"/>
          <a:stretch/>
        </p:blipFill>
        <p:spPr>
          <a:xfrm>
            <a:off x="5187960" y="1522440"/>
            <a:ext cx="4616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3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9619-02A6-447B-834F-F87326B440B3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direc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0760" y="1898280"/>
            <a:ext cx="8543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0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de la curva Q(U): intercambio de energía reactiva entre la red y el generad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pende del voltaje real en el generador de la unidad de generación de energí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 caso de subexcitación: Qmax se fijará en un valor superior a U/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 caso de sobreexcitación: Qmax se fijará en un valor inferior a U/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podrían integrar más generadores en la red (antes sólo era posible con al menos media tensió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poyo dinámico a la red: los generadores deben permanecer conectados a la red prestando apoyo durante las caídas o aumentos de voltaje de corto plazo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;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feld 11"/>
          <p:cNvSpPr/>
          <p:nvPr/>
        </p:nvSpPr>
        <p:spPr>
          <a:xfrm>
            <a:off x="2646360" y="642312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43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4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04BE-D6F6-413A-A87A-C0A6D68405CC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0760" y="1455480"/>
            <a:ext cx="854388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0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imentación de potencia activa en caso de subfrecuencia: cualquier unidad de generación y almacenamiento de energía apoyará la red temporalmente suministrando más pot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r ejemplo, las baterías de almacenamiento (cuando no están descargadas) pueden suministrar una mayor potencia a la red durante un corto período de tiempo y las unidades de cogeneración que funcionan a carga parcial pueden aumentar la potencia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;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quisitos de seguridad para sistemas con 30 kW - 135 k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Una protección central de desacoplamiento, un interruptor de acoplamiento con la alimentación correspondiente y una gestión de seguridad de la red para controlar la potencia (valores nominales: 0%, 30%, 60%, 100%)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ertificado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stemas &lt; 135 kW sólo necesitan certificados por unidad (facilitada por el fabricante) para el sistema de generación, el almacenamiento y la protección de desacoplamiento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feld 11"/>
          <p:cNvSpPr/>
          <p:nvPr/>
        </p:nvSpPr>
        <p:spPr>
          <a:xfrm>
            <a:off x="2646360" y="6356520"/>
            <a:ext cx="546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4: Hager; Sistemas de solución para la regulación VDE-AR-N-4105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MV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0760" y="1825200"/>
            <a:ext cx="8543880" cy="4351320"/>
          </a:xfrm>
          <a:prstGeom prst="rect">
            <a:avLst/>
          </a:prstGeom>
          <a:ln w="0">
            <a:noFill/>
          </a:ln>
        </p:spPr>
      </p:pic>
      <p:sp>
        <p:nvSpPr>
          <p:cNvPr id="350" name="Foliennummernplatzhalter 3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461D-9C34-4A71-A477-EE5CE6DB765F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5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D857-E45B-4C7F-9681-11EE8B923230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0760" y="1898280"/>
            <a:ext cx="8543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VDE-AR-N 4110 sustituye a la antigua Directiva sobre Media Tensión a partir de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VDE-AR-N 4110 se aplica a los sistemas con 135kW-36 MW (1kV-60 kV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reglamentos se aplican ahora también a los sistemas de almacenamiento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2;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requisitos también se aplican a los grupos electrógenos de emergencia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feld 11"/>
          <p:cNvSpPr/>
          <p:nvPr/>
        </p:nvSpPr>
        <p:spPr>
          <a:xfrm>
            <a:off x="2646360" y="6372360"/>
            <a:ext cx="546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5: La empresa M.O.E. informa sobre la regulación de la conexión técnica a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5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61A6-4917-49BA-A322-C4A21118D51C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0760" y="1411200"/>
            <a:ext cx="59562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Nuevos conceptos de protección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El operador deberá realizar controles regulares del mecanismo de protección en los sistema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Los sistemas deben contar con una protección central de desacoplamiento (independiente de los requisitos del operador de la red), un interruptor de acoplamiento con la correspondiente alimentación de tensión y un sistema de gestión de la seguridad de la red para controlar la potencia </a:t>
            </a:r>
            <a:r>
              <a:rPr b="0" lang="es-ES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Certificado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istemas de generación &gt; 135 kW en la red de media tensión: se requiere un certificado del sistem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istemas de generación &lt; 135 kW no se requiere certificado del sistema, sino únicamente un certificado de la unidad según lo estipulado en VDE AR-N 4110</a:t>
            </a:r>
            <a:r>
              <a:rPr b="0" lang="es-ES" sz="1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2;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feld 11"/>
          <p:cNvSpPr/>
          <p:nvPr/>
        </p:nvSpPr>
        <p:spPr>
          <a:xfrm>
            <a:off x="2646360" y="6359400"/>
            <a:ext cx="546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2: VDE; Plantas de generación en la red de baja tensión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3: Schwarzburger, Heiko; Directiva sobre Baja Tensión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4: Hager; Sistemas de solución para la regulación VDE-AR-N-4105; 2019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Grafik 2" descr=""/>
          <p:cNvPicPr/>
          <p:nvPr/>
        </p:nvPicPr>
        <p:blipFill>
          <a:blip r:embed="rId3"/>
          <a:stretch/>
        </p:blipFill>
        <p:spPr>
          <a:xfrm>
            <a:off x="6562800" y="3546360"/>
            <a:ext cx="33354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0760" y="2127240"/>
            <a:ext cx="85438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la generación de energía descentraliz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0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ECE0-BC7D-420B-B182-BA6A282CF1AF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65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66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8F33-76BE-4E5E-B6C4-014086DB412A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0760" y="1677960"/>
            <a:ext cx="8543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mpliación de requisitos para el suministro de potencia 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unidades de generación en funcionamiento de carga parcial ahora deberán proporcionar más potencia reac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cada punto de servicio (&gt;20 %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), se deberá proporcionar una potencia reactiva del 33% de la potencia nominal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"en formato de bloque" en lugar del límite cos φ según la antigua direc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a potencia reactiva del 33% de la potencia nominal sigue correspondiendo a un cos φ de 0,95 (sobreexcitado y subexcitado) en funcionamiento a plena carga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por lo que en funcionamiento a plena carga no hay cambios frente a la antigua directiva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feld 11"/>
          <p:cNvSpPr/>
          <p:nvPr/>
        </p:nvSpPr>
        <p:spPr>
          <a:xfrm>
            <a:off x="2646360" y="642312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6: Empresa M.O.E; Cambio de requisitos para el suministro de potencia reactiva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Grafik 3" descr="Ein Bild, das Gitarre enthält.&#10;&#10;Automatisch generierte Beschreibung"/>
          <p:cNvPicPr/>
          <p:nvPr/>
        </p:nvPicPr>
        <p:blipFill>
          <a:blip r:embed="rId1"/>
          <a:stretch/>
        </p:blipFill>
        <p:spPr>
          <a:xfrm>
            <a:off x="538200" y="3267000"/>
            <a:ext cx="4302000" cy="29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Grafik 5" descr=""/>
          <p:cNvPicPr/>
          <p:nvPr/>
        </p:nvPicPr>
        <p:blipFill>
          <a:blip r:embed="rId2"/>
          <a:stretch/>
        </p:blipFill>
        <p:spPr>
          <a:xfrm>
            <a:off x="5184720" y="3262320"/>
            <a:ext cx="4322880" cy="291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Picture 9" descr=""/>
          <p:cNvPicPr/>
          <p:nvPr/>
        </p:nvPicPr>
        <p:blipFill>
          <a:blip r:embed="rId3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73" name="Imagen 5" descr=""/>
          <p:cNvPicPr/>
          <p:nvPr/>
        </p:nvPicPr>
        <p:blipFill>
          <a:blip r:embed="rId4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7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DA1C-D169-4776-A2E0-9F3E33CA348D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0760" y="1344600"/>
            <a:ext cx="85438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la regulació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aración de los requisitos antiguos y nuevos para el suministro de potencia reactiva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Textfeld 11" descr=""/>
          <p:cNvPicPr/>
          <p:nvPr/>
        </p:nvPicPr>
        <p:blipFill>
          <a:blip r:embed="rId5"/>
          <a:stretch/>
        </p:blipFill>
        <p:spPr>
          <a:xfrm>
            <a:off x="2646360" y="6424560"/>
            <a:ext cx="5460840" cy="366840"/>
          </a:xfrm>
          <a:prstGeom prst="rect">
            <a:avLst/>
          </a:prstGeom>
          <a:ln w="0">
            <a:noFill/>
          </a:ln>
        </p:spPr>
      </p:pic>
      <p:sp>
        <p:nvSpPr>
          <p:cNvPr id="378" name="Textfeld 6"/>
          <p:cNvSpPr/>
          <p:nvPr/>
        </p:nvSpPr>
        <p:spPr>
          <a:xfrm>
            <a:off x="1108080" y="290052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rmativa antigu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feld 12"/>
          <p:cNvSpPr/>
          <p:nvPr/>
        </p:nvSpPr>
        <p:spPr>
          <a:xfrm>
            <a:off x="8021520" y="617364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Fuente: Servicio de M.O.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feld 13"/>
          <p:cNvSpPr/>
          <p:nvPr/>
        </p:nvSpPr>
        <p:spPr>
          <a:xfrm>
            <a:off x="4952880" y="2898720"/>
            <a:ext cx="40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ueva normativa (VDE-AR-N 4110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Grafik 5" descr=""/>
          <p:cNvPicPr/>
          <p:nvPr/>
        </p:nvPicPr>
        <p:blipFill>
          <a:blip r:embed="rId1"/>
          <a:srcRect l="0" t="9291" r="45781" b="0"/>
          <a:stretch/>
        </p:blipFill>
        <p:spPr>
          <a:xfrm>
            <a:off x="668160" y="2249640"/>
            <a:ext cx="3619800" cy="3016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83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8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2F0-D416-4402-86D1-6BBDF195F6E7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0760" y="1344600"/>
            <a:ext cx="85438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mbios importantes en VDE-AR-N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1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ras la enmienda d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6: Empresa M.O.E; Cambio de requisitos para el suministro de potencia reactiva; 20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feld 12"/>
          <p:cNvSpPr/>
          <p:nvPr/>
        </p:nvSpPr>
        <p:spPr>
          <a:xfrm>
            <a:off x="649440" y="582948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Fuente: Servicio de M.O.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Grafik 13" descr="Ein Bild, das Screenshot enthält.&#10;&#10;Automatisch generierte Beschreibung"/>
          <p:cNvPicPr/>
          <p:nvPr/>
        </p:nvPicPr>
        <p:blipFill>
          <a:blip r:embed="rId4"/>
          <a:srcRect l="37173" t="0" r="0" b="79537"/>
          <a:stretch/>
        </p:blipFill>
        <p:spPr>
          <a:xfrm>
            <a:off x="668160" y="5119560"/>
            <a:ext cx="3619800" cy="639720"/>
          </a:xfrm>
          <a:prstGeom prst="rect">
            <a:avLst/>
          </a:prstGeom>
          <a:ln w="0">
            <a:noFill/>
          </a:ln>
        </p:spPr>
      </p:pic>
      <p:sp>
        <p:nvSpPr>
          <p:cNvPr id="390" name="Textfeld 6"/>
          <p:cNvSpPr/>
          <p:nvPr/>
        </p:nvSpPr>
        <p:spPr>
          <a:xfrm>
            <a:off x="4287960" y="1941480"/>
            <a:ext cx="4937040" cy="42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requisitos de potencia reactiva se aplican a la gama de tensión de 0,9 UC a 1,1 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el ámbito de sobreexcitación en el caso de sobretensión, y en el ámbito de subexcitación en el caso de subtensión, esta función está "cortada", ya que un modo de funcionamiento de subexcitación ya conduce a una reducción de la tensión y un modo de funcionamiento de sobreexcitación conduce a un aumento de la tensió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sólo cambios mínimos frente a la antigua directiva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9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9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961E-73D8-49C8-A711-7164E7B4EA26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sobre las unidades de generación conectadas a la red de media tensión con respecto al contro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nám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cluso las unidades de generación de energía renovable conectadas a la red de media tensión deberán tener la capacidad 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rmanecer conectadas a la red en caso de fallos en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poyar la tensión de la red durante un fallo de la red alimentando corrientes reactivas a la 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absorber más potencia reactiva después de la eliminación del fallo de la red que antes del fa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Grafik 4" descr=""/>
          <p:cNvPicPr/>
          <p:nvPr/>
        </p:nvPicPr>
        <p:blipFill>
          <a:blip r:embed="rId1"/>
          <a:stretch/>
        </p:blipFill>
        <p:spPr>
          <a:xfrm>
            <a:off x="392040" y="2571840"/>
            <a:ext cx="5867640" cy="4046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398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39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E940-D2FD-4981-B64C-8523D83422A3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sobre las unidades de generación conectadas a la red de media tensión con respecto al contro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nám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feld 11"/>
          <p:cNvSpPr/>
          <p:nvPr/>
        </p:nvSpPr>
        <p:spPr>
          <a:xfrm>
            <a:off x="6110280" y="2629080"/>
            <a:ext cx="34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idades de generación conectadas a la red mediante generadores síncro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feld 12"/>
          <p:cNvSpPr/>
          <p:nvPr/>
        </p:nvSpPr>
        <p:spPr>
          <a:xfrm>
            <a:off x="6259680" y="3922560"/>
            <a:ext cx="330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unidades de generación que están por encima de la línea roja no se podrán desconec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Grafik 2" descr=""/>
          <p:cNvPicPr/>
          <p:nvPr/>
        </p:nvPicPr>
        <p:blipFill>
          <a:blip r:embed="rId1"/>
          <a:stretch/>
        </p:blipFill>
        <p:spPr>
          <a:xfrm>
            <a:off x="378000" y="2563920"/>
            <a:ext cx="6011640" cy="383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06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07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8755-419A-4495-9FEE-91726822A4AF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sobre las unidades de generación conectadas a la red de media tensión con respecto al contro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nám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de la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feld 11"/>
          <p:cNvSpPr/>
          <p:nvPr/>
        </p:nvSpPr>
        <p:spPr>
          <a:xfrm>
            <a:off x="6054840" y="2563920"/>
            <a:ext cx="351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idades de generación conectadas a la red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otra forma qu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mediante generadores síncro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feld 12"/>
          <p:cNvSpPr/>
          <p:nvPr/>
        </p:nvSpPr>
        <p:spPr>
          <a:xfrm>
            <a:off x="6483240" y="3922560"/>
            <a:ext cx="308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unidades de generación que están por encima de la línea roja no se podrán desconec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13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1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FB11-FA91-42CA-B127-C3E54F90BD2B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Evaluación de posibles restricci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s norm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sobre las unidades de generación conectadas a la red de media tensión con respecto a la carga de las instalaciones y problemas de cuellos de botell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aplican las mismas reglas que para la red de baja ten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0760" y="2127240"/>
            <a:ext cx="85438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las consecuencias para el control de la frecu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19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20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D49F-5B6B-4ED3-995C-99FA0DABB1D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Grafik 4" descr=""/>
          <p:cNvPicPr/>
          <p:nvPr/>
        </p:nvPicPr>
        <p:blipFill>
          <a:blip r:embed="rId1"/>
          <a:srcRect l="0" t="15490" r="0" b="6501"/>
          <a:stretch/>
        </p:blipFill>
        <p:spPr>
          <a:xfrm>
            <a:off x="538200" y="2635200"/>
            <a:ext cx="6041880" cy="35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2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23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24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1B79-C7AA-4375-BB02-55966B18E6AE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zcla de generación energética (neta) en Alemania 2019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feld 5"/>
          <p:cNvSpPr/>
          <p:nvPr/>
        </p:nvSpPr>
        <p:spPr>
          <a:xfrm>
            <a:off x="5423040" y="6167520"/>
            <a:ext cx="12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uente: Informe de electricidad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feld 6"/>
          <p:cNvSpPr/>
          <p:nvPr/>
        </p:nvSpPr>
        <p:spPr>
          <a:xfrm>
            <a:off x="6723000" y="2479680"/>
            <a:ext cx="2943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6% energía renov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4,5% energía eól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8,6% bioener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9,1% fotovolta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,8% energía hidráulica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8: Instituto Fraunhofer ISE; Informe de energía eléctrica; 202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31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3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A4E2-FC15-4267-B9E3-07521D0118E0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Mezcla de generación energética en Alemania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La Ley Alemana de Energía Renovable desencadenó enormes inversiones privadas en capacidades de generación de energí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n muchos casos se trata de pequeñas unidades instaladas en las redes de distribu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Alcanzar un aumento de esta magnitud en un tiempo comparable resulta casi imposible con grandes unidades centralizad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sta situación provocó fuertes cambios en distintas partes de la sociedad..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... pero definitivamente también en cuanto a la gestión de la r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rafik 4" descr=""/>
          <p:cNvPicPr/>
          <p:nvPr/>
        </p:nvPicPr>
        <p:blipFill>
          <a:blip r:embed="rId1"/>
          <a:stretch/>
        </p:blipFill>
        <p:spPr>
          <a:xfrm>
            <a:off x="538200" y="2162160"/>
            <a:ext cx="4635360" cy="404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EC9C-BEAB-472F-9A14-E598D33A04B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9"/>
          <p:cNvSpPr/>
          <p:nvPr/>
        </p:nvSpPr>
        <p:spPr>
          <a:xfrm>
            <a:off x="3179880" y="56988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sión y distribución de electricidad, ay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Grafik 12" descr=""/>
          <p:cNvPicPr/>
          <p:nvPr/>
        </p:nvPicPr>
        <p:blipFill>
          <a:blip r:embed="rId1"/>
          <a:stretch/>
        </p:blipFill>
        <p:spPr>
          <a:xfrm>
            <a:off x="541440" y="2381400"/>
            <a:ext cx="5275080" cy="397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37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3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4236-70D0-4A89-8D28-A9EC14ACD0EF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0760" y="190332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piedad de la capacidad de generación de energía renova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feld 6"/>
          <p:cNvSpPr/>
          <p:nvPr/>
        </p:nvSpPr>
        <p:spPr>
          <a:xfrm>
            <a:off x="6110280" y="2505240"/>
            <a:ext cx="3411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00 GW de potencia de generación renov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rededor del 40% son inversiones priv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1,5% son personas priv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0,5% son agricult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ólo el 15,7% proviene de servicios públicos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9: Agencia para Energías Renovables; Cantidad inmensa de energía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4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4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CD28-15C1-410A-A5EF-244DA19C55F8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reación de empleo en el sector de la energía renova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feld 6"/>
          <p:cNvSpPr/>
          <p:nvPr/>
        </p:nvSpPr>
        <p:spPr>
          <a:xfrm>
            <a:off x="6146640" y="2643120"/>
            <a:ext cx="33372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rededor de 3 veces más puestos de trabajo que en el año 2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ico en 2011 debido al auge de la energía fotovoltaic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luego disminución de la energía fotovoltaica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9: Agencia para Energías Renovables; Cantidad inmensa de energía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Grafik 4" descr=""/>
          <p:cNvPicPr/>
          <p:nvPr/>
        </p:nvPicPr>
        <p:blipFill>
          <a:blip r:embed="rId3"/>
          <a:stretch/>
        </p:blipFill>
        <p:spPr>
          <a:xfrm>
            <a:off x="665280" y="2355840"/>
            <a:ext cx="5222880" cy="39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5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5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2F21-5872-4406-AC01-19B66C78A806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0760" y="1898640"/>
            <a:ext cx="85438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reación de empleo en el sector de la energía renova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feld 6"/>
          <p:cNvSpPr/>
          <p:nvPr/>
        </p:nvSpPr>
        <p:spPr>
          <a:xfrm>
            <a:off x="6248520" y="2790720"/>
            <a:ext cx="3119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mayoría de los puestos de trabajo en energía eólica y bioenergía, seguidos de la energía solar y geotérmica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feld 11"/>
          <p:cNvSpPr/>
          <p:nvPr/>
        </p:nvSpPr>
        <p:spPr>
          <a:xfrm>
            <a:off x="2646360" y="64231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9: Agencia para Energías Renovables; Cantidad inmensa de energía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Grafik 13" descr=""/>
          <p:cNvPicPr/>
          <p:nvPr/>
        </p:nvPicPr>
        <p:blipFill>
          <a:blip r:embed="rId3"/>
          <a:stretch/>
        </p:blipFill>
        <p:spPr>
          <a:xfrm>
            <a:off x="681120" y="2370240"/>
            <a:ext cx="5270400" cy="39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uppieren 1"/>
          <p:cNvGrpSpPr/>
          <p:nvPr/>
        </p:nvGrpSpPr>
        <p:grpSpPr>
          <a:xfrm>
            <a:off x="2013120" y="2544840"/>
            <a:ext cx="5879880" cy="4143240"/>
            <a:chOff x="2013120" y="2544840"/>
            <a:chExt cx="5879880" cy="4143240"/>
          </a:xfrm>
        </p:grpSpPr>
        <p:pic>
          <p:nvPicPr>
            <p:cNvPr id="460" name="Grafik 2" descr=""/>
            <p:cNvPicPr/>
            <p:nvPr/>
          </p:nvPicPr>
          <p:blipFill>
            <a:blip r:embed="rId1"/>
            <a:srcRect l="10413" t="41411" r="44795" b="16740"/>
            <a:stretch/>
          </p:blipFill>
          <p:spPr>
            <a:xfrm>
              <a:off x="2013120" y="2544840"/>
              <a:ext cx="5725080" cy="41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Rechteck 13"/>
            <p:cNvSpPr/>
            <p:nvPr/>
          </p:nvSpPr>
          <p:spPr>
            <a:xfrm>
              <a:off x="6448320" y="2544840"/>
              <a:ext cx="1444680" cy="318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feld 4"/>
            <p:cNvSpPr/>
            <p:nvPr/>
          </p:nvSpPr>
          <p:spPr>
            <a:xfrm>
              <a:off x="3458880" y="2644200"/>
              <a:ext cx="308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rtamiento del sistema respecto a la capacidad de generación (por ejemplo, fotovoltaica) en redes de baja tens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3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64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6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E930-FD02-474E-9CDE-2C986A98E5F8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acción a los cambios de frecuencia – versión antigu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uppieren 72"/>
          <p:cNvGrpSpPr/>
          <p:nvPr/>
        </p:nvGrpSpPr>
        <p:grpSpPr>
          <a:xfrm>
            <a:off x="1657440" y="3030480"/>
            <a:ext cx="1811160" cy="933480"/>
            <a:chOff x="1657440" y="3030480"/>
            <a:chExt cx="1811160" cy="933480"/>
          </a:xfrm>
        </p:grpSpPr>
        <p:sp>
          <p:nvSpPr>
            <p:cNvPr id="469" name="Textfeld 15"/>
            <p:cNvSpPr/>
            <p:nvPr/>
          </p:nvSpPr>
          <p:spPr>
            <a:xfrm>
              <a:off x="2929320" y="35352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,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Gerade Verbindung 42"/>
            <p:cNvSpPr/>
            <p:nvPr/>
          </p:nvSpPr>
          <p:spPr>
            <a:xfrm>
              <a:off x="1657440" y="3282480"/>
              <a:ext cx="172800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Gerade Verbindung 43"/>
            <p:cNvSpPr/>
            <p:nvPr/>
          </p:nvSpPr>
          <p:spPr>
            <a:xfrm>
              <a:off x="1657440" y="3291120"/>
              <a:ext cx="0" cy="6728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Textfeld 16"/>
            <p:cNvSpPr/>
            <p:nvPr/>
          </p:nvSpPr>
          <p:spPr>
            <a:xfrm>
              <a:off x="2989080" y="303048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,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Nach unten gekrümmter Pfeil 23"/>
          <p:cNvSpPr/>
          <p:nvPr/>
        </p:nvSpPr>
        <p:spPr>
          <a:xfrm rot="1294800">
            <a:off x="1552320" y="2881080"/>
            <a:ext cx="6005520" cy="1471320"/>
          </a:xfrm>
          <a:custGeom>
            <a:avLst/>
            <a:gdLst>
              <a:gd name="textAreaLeft" fmla="*/ 1363320 w 6005520"/>
              <a:gd name="textAreaRight" fmla="*/ 4458240 w 6005520"/>
              <a:gd name="textAreaTop" fmla="*/ 196920 h 1471320"/>
              <a:gd name="textAreaBottom" fmla="*/ 1274400 h 14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08" hR="21600" stAng="10800000" swAng="5400000"/>
                <a:lnTo>
                  <a:pt x="11131" y="0"/>
                </a:lnTo>
                <a:arcTo wR="9808" hR="21600" stAng="-5400000" swAng="3622576"/>
                <a:lnTo>
                  <a:pt x="21289" y="16200"/>
                </a:lnTo>
                <a:lnTo>
                  <a:pt x="20278" y="21600"/>
                </a:lnTo>
                <a:lnTo>
                  <a:pt x="18644" y="16200"/>
                </a:lnTo>
                <a:lnTo>
                  <a:pt x="19305" y="16200"/>
                </a:lnTo>
                <a:arcTo wR="9808" hR="21600" stAng="-1777424" swAng="-3517087"/>
                <a:lnTo>
                  <a:pt x="10470" y="49"/>
                </a:lnTo>
                <a:arcTo wR="9808" hR="21600" stAng="-5505488" swAng="-5294512"/>
                <a:close/>
              </a:path>
              <a:path fill="darkenLess" w="21600" h="21600">
                <a:moveTo>
                  <a:pt x="0" y="21600"/>
                </a:moveTo>
                <a:arcTo wR="9808" hR="21600" stAng="10800000" swAng="5400000"/>
                <a:lnTo>
                  <a:pt x="9808" y="0"/>
                </a:lnTo>
                <a:arcTo wR="9808" hR="21600" stAng="-5400000" swAng="105488"/>
                <a:lnTo>
                  <a:pt x="10470" y="49"/>
                </a:lnTo>
                <a:arcTo wR="9808" hR="21600" stAng="-5505488" swAng="-5294512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475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476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9012-3F18-4AA0-9FF9-E3C70100CF50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a de 50.2 H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Gerade Verbindung 5"/>
          <p:cNvSpPr/>
          <p:nvPr/>
        </p:nvSpPr>
        <p:spPr>
          <a:xfrm>
            <a:off x="1257480" y="3111480"/>
            <a:ext cx="6570360" cy="2685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feld 9"/>
          <p:cNvSpPr/>
          <p:nvPr/>
        </p:nvSpPr>
        <p:spPr>
          <a:xfrm>
            <a:off x="2881440" y="3971880"/>
            <a:ext cx="48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50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1" name="Gruppieren 46"/>
          <p:cNvGrpSpPr/>
          <p:nvPr/>
        </p:nvGrpSpPr>
        <p:grpSpPr>
          <a:xfrm>
            <a:off x="1071720" y="3906720"/>
            <a:ext cx="3703320" cy="649080"/>
            <a:chOff x="1071720" y="3906720"/>
            <a:chExt cx="3703320" cy="649080"/>
          </a:xfrm>
        </p:grpSpPr>
        <p:grpSp>
          <p:nvGrpSpPr>
            <p:cNvPr id="482" name="Gruppieren 73"/>
            <p:cNvGrpSpPr/>
            <p:nvPr/>
          </p:nvGrpSpPr>
          <p:grpSpPr>
            <a:xfrm>
              <a:off x="3271680" y="3906720"/>
              <a:ext cx="1503360" cy="578520"/>
              <a:chOff x="3271680" y="3906720"/>
              <a:chExt cx="1503360" cy="578520"/>
            </a:xfrm>
          </p:grpSpPr>
          <p:sp>
            <p:nvSpPr>
              <p:cNvPr id="483" name="Gerade Verbindung 39"/>
              <p:cNvSpPr/>
              <p:nvPr/>
            </p:nvSpPr>
            <p:spPr>
              <a:xfrm>
                <a:off x="3271680" y="4485240"/>
                <a:ext cx="1503360" cy="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Gerade Verbindung 40"/>
              <p:cNvSpPr/>
              <p:nvPr/>
            </p:nvSpPr>
            <p:spPr>
              <a:xfrm>
                <a:off x="4768200" y="3906720"/>
                <a:ext cx="0" cy="57456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5" name="Gruppieren 74"/>
            <p:cNvGrpSpPr/>
            <p:nvPr/>
          </p:nvGrpSpPr>
          <p:grpSpPr>
            <a:xfrm>
              <a:off x="1071720" y="4193280"/>
              <a:ext cx="3696840" cy="362520"/>
              <a:chOff x="1071720" y="4193280"/>
              <a:chExt cx="3696840" cy="362520"/>
            </a:xfrm>
          </p:grpSpPr>
          <p:cxnSp>
            <p:nvCxnSpPr>
              <p:cNvPr id="486" name="Gerade Verbindung mit Pfeil 68"/>
              <p:cNvCxnSpPr/>
              <p:nvPr/>
            </p:nvCxnSpPr>
            <p:spPr>
              <a:xfrm>
                <a:off x="1762920" y="4193280"/>
                <a:ext cx="300600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487" name="Textfeld 69"/>
              <p:cNvSpPr/>
              <p:nvPr/>
            </p:nvSpPr>
            <p:spPr>
              <a:xfrm>
                <a:off x="1071720" y="4294440"/>
                <a:ext cx="26971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7f7f7f"/>
                    </a:solidFill>
                    <a:latin typeface="Arial"/>
                    <a:ea typeface="Arial"/>
                  </a:rPr>
                  <a:t>Capacidad de control primario (3 GW)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8" name="Gruppieren 45"/>
          <p:cNvGrpSpPr/>
          <p:nvPr/>
        </p:nvGrpSpPr>
        <p:grpSpPr>
          <a:xfrm>
            <a:off x="1257480" y="4611600"/>
            <a:ext cx="6389640" cy="1958760"/>
            <a:chOff x="1257480" y="4611600"/>
            <a:chExt cx="6389640" cy="1958760"/>
          </a:xfrm>
        </p:grpSpPr>
        <p:grpSp>
          <p:nvGrpSpPr>
            <p:cNvPr id="489" name="Gruppieren 85"/>
            <p:cNvGrpSpPr/>
            <p:nvPr/>
          </p:nvGrpSpPr>
          <p:grpSpPr>
            <a:xfrm>
              <a:off x="1257480" y="4611600"/>
              <a:ext cx="6389640" cy="1780560"/>
              <a:chOff x="1257480" y="4611600"/>
              <a:chExt cx="6389640" cy="1780560"/>
            </a:xfrm>
          </p:grpSpPr>
          <p:grpSp>
            <p:nvGrpSpPr>
              <p:cNvPr id="490" name="Gruppieren 83"/>
              <p:cNvGrpSpPr/>
              <p:nvPr/>
            </p:nvGrpSpPr>
            <p:grpSpPr>
              <a:xfrm>
                <a:off x="1257480" y="4611600"/>
                <a:ext cx="5347440" cy="1780560"/>
                <a:chOff x="1257480" y="4611600"/>
                <a:chExt cx="5347440" cy="1780560"/>
              </a:xfrm>
            </p:grpSpPr>
            <p:sp>
              <p:nvSpPr>
                <p:cNvPr id="491" name="Textfeld 30"/>
                <p:cNvSpPr/>
                <p:nvPr/>
              </p:nvSpPr>
              <p:spPr>
                <a:xfrm>
                  <a:off x="2970000" y="5029920"/>
                  <a:ext cx="47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,0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2" name="Textfeld 31"/>
                <p:cNvSpPr/>
                <p:nvPr/>
              </p:nvSpPr>
              <p:spPr>
                <a:xfrm>
                  <a:off x="2964960" y="5338080"/>
                  <a:ext cx="47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7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3" name="Textfeld 32"/>
                <p:cNvSpPr/>
                <p:nvPr/>
              </p:nvSpPr>
              <p:spPr>
                <a:xfrm>
                  <a:off x="2968560" y="5637240"/>
                  <a:ext cx="47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4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4" name="Textfeld 33"/>
                <p:cNvSpPr/>
                <p:nvPr/>
              </p:nvSpPr>
              <p:spPr>
                <a:xfrm>
                  <a:off x="2972160" y="6115680"/>
                  <a:ext cx="47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7,5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5" name="Rechteck 87"/>
                <p:cNvSpPr/>
                <p:nvPr/>
              </p:nvSpPr>
              <p:spPr>
                <a:xfrm>
                  <a:off x="2165040" y="4611600"/>
                  <a:ext cx="4266720" cy="41796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6" name="Gerade Verbindung 35"/>
                <p:cNvSpPr/>
                <p:nvPr/>
              </p:nvSpPr>
              <p:spPr>
                <a:xfrm>
                  <a:off x="1257480" y="4611600"/>
                  <a:ext cx="534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7" name="Gerade Verbindung 36"/>
                <p:cNvSpPr/>
                <p:nvPr/>
              </p:nvSpPr>
              <p:spPr>
                <a:xfrm>
                  <a:off x="1283040" y="5029560"/>
                  <a:ext cx="5321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98" name="Gerade Verbindung 26"/>
              <p:cNvSpPr/>
              <p:nvPr/>
            </p:nvSpPr>
            <p:spPr>
              <a:xfrm>
                <a:off x="3392280" y="5142960"/>
                <a:ext cx="2863440" cy="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Gerade Verbindung 27"/>
              <p:cNvSpPr/>
              <p:nvPr/>
            </p:nvSpPr>
            <p:spPr>
              <a:xfrm flipV="1">
                <a:off x="3383280" y="5445720"/>
                <a:ext cx="3590280" cy="252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Gerade Verbindung 28"/>
              <p:cNvSpPr/>
              <p:nvPr/>
            </p:nvSpPr>
            <p:spPr>
              <a:xfrm flipV="1">
                <a:off x="3383280" y="5749200"/>
                <a:ext cx="4263840" cy="108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Gerade Verbindung 29"/>
              <p:cNvSpPr/>
              <p:nvPr/>
            </p:nvSpPr>
            <p:spPr>
              <a:xfrm flipV="1">
                <a:off x="3383280" y="6225120"/>
                <a:ext cx="4263840" cy="1080"/>
              </a:xfrm>
              <a:prstGeom prst="line">
                <a:avLst/>
              </a:prstGeom>
              <a:ln w="9360">
                <a:solidFill>
                  <a:srgbClr val="00c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2" name="Textfeld 14"/>
            <p:cNvSpPr/>
            <p:nvPr/>
          </p:nvSpPr>
          <p:spPr>
            <a:xfrm>
              <a:off x="2913480" y="5169240"/>
              <a:ext cx="359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minución del 10 al 15% de la carga del sistem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feld 15"/>
            <p:cNvSpPr/>
            <p:nvPr/>
          </p:nvSpPr>
          <p:spPr>
            <a:xfrm>
              <a:off x="2803320" y="5495040"/>
              <a:ext cx="44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minución de un 10 al 15% adicional de la carga del sistem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Textfeld 16"/>
            <p:cNvSpPr/>
            <p:nvPr/>
          </p:nvSpPr>
          <p:spPr>
            <a:xfrm>
              <a:off x="2803320" y="5865480"/>
              <a:ext cx="44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minución de un 15 al 20% adicional de la carga del sistem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Textfeld 17"/>
            <p:cNvSpPr/>
            <p:nvPr/>
          </p:nvSpPr>
          <p:spPr>
            <a:xfrm>
              <a:off x="2811240" y="6293880"/>
              <a:ext cx="387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onexión de todas las instalaciones de generac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Textfeld 24"/>
          <p:cNvSpPr/>
          <p:nvPr/>
        </p:nvSpPr>
        <p:spPr>
          <a:xfrm>
            <a:off x="4829040" y="2641680"/>
            <a:ext cx="17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otencia FV &gt;&gt; 3 G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Gruppieren 84"/>
          <p:cNvGrpSpPr/>
          <p:nvPr/>
        </p:nvGrpSpPr>
        <p:grpSpPr>
          <a:xfrm>
            <a:off x="1187280" y="2408400"/>
            <a:ext cx="2476080" cy="1586520"/>
            <a:chOff x="1187280" y="2408400"/>
            <a:chExt cx="2476080" cy="1586520"/>
          </a:xfrm>
        </p:grpSpPr>
        <p:sp>
          <p:nvSpPr>
            <p:cNvPr id="508" name="Nach unten gekrümmter Pfeil 21"/>
            <p:cNvSpPr/>
            <p:nvPr/>
          </p:nvSpPr>
          <p:spPr>
            <a:xfrm flipH="1" rot="1265400">
              <a:off x="1557000" y="3015000"/>
              <a:ext cx="2061720" cy="630000"/>
            </a:xfrm>
            <a:custGeom>
              <a:avLst/>
              <a:gdLst>
                <a:gd name="textAreaLeft" fmla="*/ 460440 w 2061720"/>
                <a:gd name="textAreaRight" fmla="*/ 1539360 w 2061720"/>
                <a:gd name="textAreaTop" fmla="*/ 84240 h 630000"/>
                <a:gd name="textAreaBottom" fmla="*/ 545760 h 63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2" hR="21600" stAng="10800000" swAng="5400000"/>
                  <a:lnTo>
                    <a:pt x="11302" y="0"/>
                  </a:lnTo>
                  <a:arcTo wR="9652" hR="21600" stAng="-5400000" swAng="3598718"/>
                  <a:lnTo>
                    <a:pt x="21294" y="16200"/>
                  </a:lnTo>
                  <a:lnTo>
                    <a:pt x="20128" y="21600"/>
                  </a:lnTo>
                  <a:lnTo>
                    <a:pt x="18350" y="16200"/>
                  </a:lnTo>
                  <a:lnTo>
                    <a:pt x="18997" y="16200"/>
                  </a:lnTo>
                  <a:arcTo wR="9652" hR="21600" stAng="-1801282" swAng="-3466997"/>
                  <a:lnTo>
                    <a:pt x="10477" y="79"/>
                  </a:lnTo>
                  <a:arcTo wR="9652" hR="21600" stAng="-5531721" swAng="-5268279"/>
                  <a:close/>
                </a:path>
                <a:path fill="darkenLess" w="21600" h="21600">
                  <a:moveTo>
                    <a:pt x="0" y="21600"/>
                  </a:moveTo>
                  <a:arcTo wR="9652" hR="21600" stAng="10800000" swAng="5400000"/>
                  <a:lnTo>
                    <a:pt x="9652" y="0"/>
                  </a:lnTo>
                  <a:arcTo wR="9652" hR="21600" stAng="-5400000" swAng="131721"/>
                  <a:lnTo>
                    <a:pt x="10477" y="79"/>
                  </a:lnTo>
                  <a:arcTo wR="9652" hR="21600" stAng="-5531721" swAng="-5268279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Textfeld 22"/>
            <p:cNvSpPr/>
            <p:nvPr/>
          </p:nvSpPr>
          <p:spPr>
            <a:xfrm>
              <a:off x="1187280" y="2408400"/>
              <a:ext cx="1366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desconectaría F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Gruppieren 44"/>
          <p:cNvGrpSpPr/>
          <p:nvPr/>
        </p:nvGrpSpPr>
        <p:grpSpPr>
          <a:xfrm>
            <a:off x="1100160" y="2371680"/>
            <a:ext cx="6944040" cy="4269240"/>
            <a:chOff x="1100160" y="2371680"/>
            <a:chExt cx="6944040" cy="4269240"/>
          </a:xfrm>
        </p:grpSpPr>
        <p:cxnSp>
          <p:nvCxnSpPr>
            <p:cNvPr id="511" name="Gerade Verbindung mit Pfeil 95"/>
            <p:cNvCxnSpPr/>
            <p:nvPr/>
          </p:nvCxnSpPr>
          <p:spPr>
            <a:xfrm>
              <a:off x="1170000" y="3994200"/>
              <a:ext cx="6768720" cy="1080"/>
            </a:xfrm>
            <a:prstGeom prst="straightConnector1">
              <a:avLst/>
            </a:prstGeom>
            <a:ln w="25560">
              <a:solidFill>
                <a:srgbClr val="00cc98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12" name="Gerade Verbindung mit Pfeil 96"/>
            <p:cNvCxnSpPr/>
            <p:nvPr/>
          </p:nvCxnSpPr>
          <p:spPr>
            <a:xfrm flipH="1">
              <a:off x="3375360" y="2371680"/>
              <a:ext cx="34920" cy="4269600"/>
            </a:xfrm>
            <a:prstGeom prst="straightConnector1">
              <a:avLst/>
            </a:prstGeom>
            <a:ln w="25560">
              <a:solidFill>
                <a:srgbClr val="00cc98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13" name="Textfeld 6"/>
            <p:cNvSpPr/>
            <p:nvPr/>
          </p:nvSpPr>
          <p:spPr>
            <a:xfrm>
              <a:off x="7480440" y="39697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Textfeld 7"/>
            <p:cNvSpPr/>
            <p:nvPr/>
          </p:nvSpPr>
          <p:spPr>
            <a:xfrm>
              <a:off x="6516360" y="3753720"/>
              <a:ext cx="152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ga &gt; generac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Textfeld 8"/>
            <p:cNvSpPr/>
            <p:nvPr/>
          </p:nvSpPr>
          <p:spPr>
            <a:xfrm>
              <a:off x="1100160" y="3753720"/>
              <a:ext cx="152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ga &lt; generació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Textfeld 13"/>
            <p:cNvSpPr/>
            <p:nvPr/>
          </p:nvSpPr>
          <p:spPr>
            <a:xfrm>
              <a:off x="2599560" y="2428560"/>
              <a:ext cx="77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[Hz]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18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1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2496-FE71-4C4F-ABF5-6C9A1975E511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Éxito de la generación descentralizada de energía y el control de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DE-AR-N 4105 con respecto al control de la frecuenc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Grafik 2" descr=""/>
          <p:cNvPicPr/>
          <p:nvPr/>
        </p:nvPicPr>
        <p:blipFill>
          <a:blip r:embed="rId3"/>
          <a:stretch/>
        </p:blipFill>
        <p:spPr>
          <a:xfrm>
            <a:off x="538200" y="2400480"/>
            <a:ext cx="5645160" cy="3956040"/>
          </a:xfrm>
          <a:prstGeom prst="rect">
            <a:avLst/>
          </a:prstGeom>
          <a:ln w="0">
            <a:noFill/>
          </a:ln>
        </p:spPr>
      </p:pic>
      <p:sp>
        <p:nvSpPr>
          <p:cNvPr id="523" name="Textfeld 15"/>
          <p:cNvSpPr/>
          <p:nvPr/>
        </p:nvSpPr>
        <p:spPr>
          <a:xfrm>
            <a:off x="5325840" y="6359400"/>
            <a:ext cx="84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Fuente: SM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feld 16"/>
          <p:cNvSpPr/>
          <p:nvPr/>
        </p:nvSpPr>
        <p:spPr>
          <a:xfrm>
            <a:off x="6470640" y="2354400"/>
            <a:ext cx="30099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spués de la desconexión de unidades de generación o la reducción necesaria de su alimentación de energía activa debido a la sobrefrecuencia, ya no se podrá aumentar la alimentación de energía hasta que la frecuencia de la red no haya disminuido a valores inferiores o iguales a 50,05 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680760" y="2127240"/>
            <a:ext cx="85438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4. Últimas recomendaciones para completar el proceso de transición energé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2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2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E725-E6CA-4DBE-B1A4-0D56BFE18F6B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30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3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AB5C-64F9-4521-B55D-FE844F62E82B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de "principios de planificación de la red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binación de expansión de la red convencional (por ejemplo, instalando líneas eléctricas adicionales) y medidas innovadoras (véase los siguientes archivos)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feld 11"/>
          <p:cNvSpPr/>
          <p:nvPr/>
        </p:nvSpPr>
        <p:spPr>
          <a:xfrm>
            <a:off x="2638440" y="639756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36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37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D15-27CC-4C6E-82FF-E28B204BCBA5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de "principios de planificación de la red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ción y consolidación de la red antes de su expan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r lo tanto, una reducción de costos para la expansión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r ejemplo, utilizando cables conductores de aluminio resistentes a la temperatura o ventilación forzada en estaciones transformadoras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feld 11"/>
          <p:cNvSpPr/>
          <p:nvPr/>
        </p:nvSpPr>
        <p:spPr>
          <a:xfrm>
            <a:off x="2638440" y="639756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42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43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8D38-8FAF-44F5-BAE9-CAF3F4D307CC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"medidas innovadoras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grupación de potencia = control de transformador en función de la potencia con ajuste dinámico de valores nominale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los límites de tensión se sobrepasan con menos frecu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 agrupación de potencia es la medida innovadora más eficiente en el nivel de media tensión para evitar una fuerte expansión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dores ajustables de la red local = utilizando una relación de transformación variable para ajustar un valor nominal específico en la tensión baja de la red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conversión basada en la demand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mejor utilización de la amplitud de tensión permit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feld 11"/>
          <p:cNvSpPr/>
          <p:nvPr/>
        </p:nvSpPr>
        <p:spPr>
          <a:xfrm>
            <a:off x="2533680" y="63565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Grafik 4" descr=""/>
          <p:cNvPicPr/>
          <p:nvPr/>
        </p:nvPicPr>
        <p:blipFill>
          <a:blip r:embed="rId1"/>
          <a:stretch/>
        </p:blipFill>
        <p:spPr>
          <a:xfrm>
            <a:off x="538200" y="2162160"/>
            <a:ext cx="4635360" cy="4048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2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5" descr=""/>
          <p:cNvPicPr/>
          <p:nvPr/>
        </p:nvPicPr>
        <p:blipFill>
          <a:blip r:embed="rId3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1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5656-1B47-4096-9B3D-4838F9DBAFE3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feld 9"/>
          <p:cNvSpPr/>
          <p:nvPr/>
        </p:nvSpPr>
        <p:spPr>
          <a:xfrm>
            <a:off x="3179880" y="56988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sión y distribución de electricidad, hoy en dí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Gerade Verbindung mit Pfeil 335"/>
          <p:cNvCxnSpPr/>
          <p:nvPr/>
        </p:nvCxnSpPr>
        <p:spPr>
          <a:xfrm flipH="1">
            <a:off x="1383480" y="5311440"/>
            <a:ext cx="252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Gerade Verbindung mit Pfeil 335"/>
          <p:cNvCxnSpPr/>
          <p:nvPr/>
        </p:nvCxnSpPr>
        <p:spPr>
          <a:xfrm flipH="1">
            <a:off x="1617480" y="531144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Gerade Verbindung mit Pfeil 335"/>
          <p:cNvCxnSpPr/>
          <p:nvPr/>
        </p:nvCxnSpPr>
        <p:spPr>
          <a:xfrm flipH="1">
            <a:off x="1095120" y="582912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Gerade Verbindung mit Pfeil 335"/>
          <p:cNvCxnSpPr/>
          <p:nvPr/>
        </p:nvCxnSpPr>
        <p:spPr>
          <a:xfrm flipH="1">
            <a:off x="1382400" y="582912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Gerade Verbindung mit Pfeil 335"/>
          <p:cNvCxnSpPr/>
          <p:nvPr/>
        </p:nvCxnSpPr>
        <p:spPr>
          <a:xfrm flipH="1">
            <a:off x="1617480" y="583380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Gerade Verbindung mit Pfeil 335"/>
          <p:cNvCxnSpPr/>
          <p:nvPr/>
        </p:nvCxnSpPr>
        <p:spPr>
          <a:xfrm flipH="1">
            <a:off x="1906200" y="583380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Gerade Verbindung mit Pfeil 335"/>
          <p:cNvCxnSpPr/>
          <p:nvPr/>
        </p:nvCxnSpPr>
        <p:spPr>
          <a:xfrm flipH="1">
            <a:off x="2138040" y="582912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" name="Gerade Verbindung mit Pfeil 335"/>
          <p:cNvCxnSpPr/>
          <p:nvPr/>
        </p:nvCxnSpPr>
        <p:spPr>
          <a:xfrm flipH="1">
            <a:off x="3507480" y="5841720"/>
            <a:ext cx="252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" name="Gerade Verbindung mit Pfeil 335"/>
          <p:cNvCxnSpPr/>
          <p:nvPr/>
        </p:nvCxnSpPr>
        <p:spPr>
          <a:xfrm flipH="1">
            <a:off x="2429640" y="5841720"/>
            <a:ext cx="252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0" name="Gerade Verbindung mit Pfeil 335"/>
          <p:cNvCxnSpPr/>
          <p:nvPr/>
        </p:nvCxnSpPr>
        <p:spPr>
          <a:xfrm flipH="1">
            <a:off x="2425320" y="5311440"/>
            <a:ext cx="216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Gerade Verbindung mit Pfeil 335"/>
          <p:cNvCxnSpPr/>
          <p:nvPr/>
        </p:nvCxnSpPr>
        <p:spPr>
          <a:xfrm flipH="1">
            <a:off x="3182040" y="5841720"/>
            <a:ext cx="2520" cy="25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feld 33"/>
          <p:cNvSpPr/>
          <p:nvPr/>
        </p:nvSpPr>
        <p:spPr>
          <a:xfrm>
            <a:off x="5641920" y="2522520"/>
            <a:ext cx="372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¡Generalmente, la generación de energía descentralizada reduce la carga del sistem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reducción de la carga de los equipos de transmisión y distribución disminuye las pérdidas de energía y, por lo tanto, baja los costos de los operadores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¿Existen otros problemas con la generación descentralizada y la inyección en las redes de distribució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48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4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32F9-7B02-42EB-9370-40BFE82BA117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"medidas innovadoras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ministro local de energía reac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l empleo de estrategias para el suministro de energía reactiva es eficiente y económico en redes adecuadas de baja/media tensión si no hay que pagar la energía reac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macenamiento en la red local = instalaciones de almacenamiento en la red en la gama de baja tensión controladas por los operadores de la red (sin instalaciones privadas de almacenamient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stos de alta tecnología (sólo económico si el precio se reduce a la mit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ivelación de picos de carga: La capacidad de alimentación de estos sistemas supera la dimensión de las redes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specialmente útil para la tensión ba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feld 11"/>
          <p:cNvSpPr/>
          <p:nvPr/>
        </p:nvSpPr>
        <p:spPr>
          <a:xfrm>
            <a:off x="2533680" y="63565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5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5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0970-9019-40D7-903A-D1542F8D4102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feld 9"/>
          <p:cNvSpPr/>
          <p:nvPr/>
        </p:nvSpPr>
        <p:spPr>
          <a:xfrm>
            <a:off x="3179880" y="5698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Adaptaciones en la Ley Alemana de Energía Renovable y recomend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0760" y="1898280"/>
            <a:ext cx="8543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comendación para el ámbito "medidas innovadoras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so de plantas de conversión de electricidad en gas a gran escala (100 MW) que proporcionan su pleno potencial de flexibilidad para las re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1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horros de costos relativamente bajos para la expansión de la red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de momento conviene dar prioridad a otras medidas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feld 11"/>
          <p:cNvSpPr/>
          <p:nvPr/>
        </p:nvSpPr>
        <p:spPr>
          <a:xfrm>
            <a:off x="2533680" y="6356520"/>
            <a:ext cx="54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3: Instituto Fraunhofer IEE; estudio sobre redes de distribución Hesse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60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61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090A-69B8-4CEF-9ADC-CBE791EB12D9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0760" y="1898640"/>
            <a:ext cx="854388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¡Muchas gracia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por su atenció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6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6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C3A2-0A24-4A20-8CB4-94353BD12E8C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feld 9"/>
          <p:cNvSpPr/>
          <p:nvPr/>
        </p:nvSpPr>
        <p:spPr>
          <a:xfrm>
            <a:off x="3179880" y="56988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s bibliográf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1] Instituto Alemán de Normalización; DIN EN 50160; 20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2] VDE; Plantas de generación en la red de baja tensión; 2018. Acceso en línea: https://www.vde.com/de/fnn/arbeitsgebiete/tar/tar-niederspannung/erzeugungsanlagen-am-niederspannungsnetz-vde-ar-n-4105-2018 (15.05.20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3] Schwarzburger, Heiko; Directiva sobre Baja Tensión; 2019. Acceso en línea: https://www.haustec.de/energie/niederspannungsrichtlinie-das-bringt-die-neue-vde-ar-n-4105?page=all (15.05.20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4] Hager; Sistemas de solución para la regulación VDE-AR-N-4105; 2019. Acceso en línea: https://www.google.com/search?q=hager+systeml%C3%B6sungen+vde+4105&amp;rlz=1C1CHBF_deDE788DE788&amp;oq=hager+systeml%C3%B6sungen+vde+4105&amp;aqs=chrome..69i57j0l3.7051j0j4&amp;sourceid=chrome&amp;ie=UTF-8#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5] La empresa M.O.E. informa sobre la regulación de la conexión técnica a la red de baja tensión; 2018. Acceso en línea: https://moe-service.com/de/moe-tar-mittelspannung (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6] M.O.E; Cambio de requisitos para el suministro de energía reactiva de plantas de generación según la regulación de la conexión técnica a la red de baja tensión (VDE-AR-N 4110); 2019. Acceso en línea: https://moe-service.com/de/node/1037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7] Ministerio Alemán de Justicia y Protección de los Consumidores; Ley de Energía Renovable; 20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569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70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E6C1-0BE3-4038-96FC-B2A49AB92BC6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feld 9"/>
          <p:cNvSpPr/>
          <p:nvPr/>
        </p:nvSpPr>
        <p:spPr>
          <a:xfrm>
            <a:off x="3179880" y="56988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s bibliográf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8] Instituto Fraunhofer ISE; Informe de energía eléctrica; 2020. Acceso en línea: https://strom-report.de/download/strommix-2019-deutschland/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9] 2018 Agencia para Energías Renovables; Cantidad inmensa de energía. Acceso en línea:  https://www.unendlich-viel-energie.de/mediathek/grafiken/grafik-dossier-erneuerbare-energien-in-buergerhand ( 07,05. 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0] photovoltaic4all; tipos actuales de subvención en el marco de la ley EEG; 2020. Acceso en línea: https://www.photovoltaik4all.de/aktuelle-eeg-verguetungssaetze-fuer-photovoltaikanlagen-2017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1] Fomento de energía fotovoltaica; fomento FV a través de la ley EEG ;2020. Acceso en línea: https://www.photovoltaik-foerderung.net/foerderung-eeg.html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2] Expertos de energía; fomento de sistemas de almacenamiento de energía: Sinopsis de créditos y subvenciones 2020/ 2021; 2020. Acceso en línea: https://www.energie-experten.org/erneuerbare-energien/photovoltaik/stromspeicher/foerderung.html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[13] Instituto Fraunhofer IEE; estudio sobre redes de distribución Hesse; 2018. Acceso en línea: https://www.house-of-energy.org/mm/2018_Verteilnetzstudie_Hessen_2024_bis_2034.pdf ( 15.05.2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3"/>
          <p:cNvGrpSpPr/>
          <p:nvPr/>
        </p:nvGrpSpPr>
        <p:grpSpPr>
          <a:xfrm>
            <a:off x="952560" y="1660680"/>
            <a:ext cx="8508960" cy="4961160"/>
            <a:chOff x="952560" y="1660680"/>
            <a:chExt cx="8508960" cy="4961160"/>
          </a:xfrm>
        </p:grpSpPr>
        <p:sp>
          <p:nvSpPr>
            <p:cNvPr id="574" name="TextBox 21"/>
            <p:cNvSpPr/>
            <p:nvPr/>
          </p:nvSpPr>
          <p:spPr>
            <a:xfrm>
              <a:off x="952560" y="1660680"/>
              <a:ext cx="3847320" cy="49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sterio de Energía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le Potosí esquina calle Ayacucho S/N, zona Centr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éfono: 218880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ww.minenergias.gob.b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ceministerio de Electricidad y Energías Alternativa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ficio Ex BBA, Av. Camacho Nº 1413 Esq. calle Loayz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éfono: 218880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ción Alemana al Desarrollo con Boliv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icina de la Cooperación Alemana al Desarroll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utsche Gesellschaft für Internationale Zusammenarbeit (GIZ) GmbH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. Julio C. Patiño Nº 1178, entre calles 17 y 18, Calacot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illa 1140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Paz, Boliv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icina del Programa de Energías Renovables (PEERR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. Sánchez Bustamante Nº 504 entre calles 11 y 12 de Calacot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Paz, Boliv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+591 (2) 211949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+591 (2) 2119499, int. 1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 johannes.kissel@giz.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 www.giz.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TextBox 6"/>
            <p:cNvSpPr/>
            <p:nvPr/>
          </p:nvSpPr>
          <p:spPr>
            <a:xfrm>
              <a:off x="5088960" y="3753000"/>
              <a:ext cx="4372560" cy="19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sterio Federal de Cooperación Económica y Desarrollo (BMZ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MZ Bon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hlmannstraße 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3113 Bonn, Aleman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+49 (0) 228 99 535 -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+49 (0) 228 99 535-350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stella@bmz.bund.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ww.bmz.de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TextBox 11"/>
            <p:cNvSpPr/>
            <p:nvPr/>
          </p:nvSpPr>
          <p:spPr>
            <a:xfrm>
              <a:off x="7011720" y="4018320"/>
              <a:ext cx="19328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MZ Berlí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esemannstraße 9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963 Berlín , Alemani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+49 (0) 30 18 535 – 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 +49 (0) 30 18 535-2501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7" name="Picture 7" descr=""/>
          <p:cNvPicPr/>
          <p:nvPr/>
        </p:nvPicPr>
        <p:blipFill>
          <a:blip r:embed="rId1"/>
          <a:stretch/>
        </p:blipFill>
        <p:spPr>
          <a:xfrm>
            <a:off x="749160" y="322200"/>
            <a:ext cx="3302280" cy="1054080"/>
          </a:xfrm>
          <a:prstGeom prst="rect">
            <a:avLst/>
          </a:prstGeom>
          <a:ln w="0">
            <a:noFill/>
          </a:ln>
        </p:spPr>
      </p:pic>
      <p:pic>
        <p:nvPicPr>
          <p:cNvPr id="578" name="Imagen 9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579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C403-9D56-442B-AF22-67AB8AB50939}" type="slidenum">
              <a:rPr b="0" lang="es-B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35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980-926E-4305-9A5F-4469C6B3A7F0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feld 9"/>
          <p:cNvSpPr/>
          <p:nvPr/>
        </p:nvSpPr>
        <p:spPr>
          <a:xfrm>
            <a:off x="3179880" y="56988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simultaneida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feld 33"/>
          <p:cNvSpPr/>
          <p:nvPr/>
        </p:nvSpPr>
        <p:spPr>
          <a:xfrm>
            <a:off x="6697800" y="2286000"/>
            <a:ext cx="282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usible de casas individuales: trifásico 63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¿Por qué no pueden todas las casas alimentar esta energía de vuelta a la r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Grafik 2" descr=""/>
          <p:cNvPicPr/>
          <p:nvPr/>
        </p:nvPicPr>
        <p:blipFill>
          <a:blip r:embed="rId3"/>
          <a:stretch/>
        </p:blipFill>
        <p:spPr>
          <a:xfrm>
            <a:off x="636480" y="2286000"/>
            <a:ext cx="5280120" cy="4070520"/>
          </a:xfrm>
          <a:prstGeom prst="rect">
            <a:avLst/>
          </a:prstGeom>
          <a:ln w="0">
            <a:noFill/>
          </a:ln>
        </p:spPr>
      </p:pic>
      <p:sp>
        <p:nvSpPr>
          <p:cNvPr id="140" name="Textfeld 21"/>
          <p:cNvSpPr/>
          <p:nvPr/>
        </p:nvSpPr>
        <p:spPr>
          <a:xfrm>
            <a:off x="5010120" y="3124080"/>
            <a:ext cx="13636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cluida calefacción eléct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feld 34"/>
          <p:cNvSpPr/>
          <p:nvPr/>
        </p:nvSpPr>
        <p:spPr>
          <a:xfrm>
            <a:off x="4530600" y="4873680"/>
            <a:ext cx="2216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Bajo nivel de electrific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feld 35"/>
          <p:cNvSpPr/>
          <p:nvPr/>
        </p:nvSpPr>
        <p:spPr>
          <a:xfrm>
            <a:off x="4843440" y="5227560"/>
            <a:ext cx="2032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cluyendo la cocina eléct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36"/>
          <p:cNvSpPr/>
          <p:nvPr/>
        </p:nvSpPr>
        <p:spPr>
          <a:xfrm>
            <a:off x="4459320" y="5472000"/>
            <a:ext cx="2238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cluye la generación eléctrica de agua cali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feld 5"/>
          <p:cNvSpPr/>
          <p:nvPr/>
        </p:nvSpPr>
        <p:spPr>
          <a:xfrm>
            <a:off x="6996240" y="4411800"/>
            <a:ext cx="240336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simultaneidad de los sistemas de energía fotovoltaica es casi "1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en una zona restringi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46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47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123D-B2A0-4EDC-A139-8267E02EE4A6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feld 9"/>
          <p:cNvSpPr/>
          <p:nvPr/>
        </p:nvSpPr>
        <p:spPr>
          <a:xfrm>
            <a:off x="3179880" y="56988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simultaneidad - nivel de carga de las instal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instalaciones relevantes son los transformadores y cables de distribu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incumplimiento de los límites de carga definidos disminuirá el ciclo de vida de la instalación o incluso podría causar su destrucció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corrientes eléctricas sufren pérdidas en todas las instalaciones que por como consecuencia se calient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 carga térmica es demasiado alta se acelera el envejecimiento y disminuye considerablemente la vida útil (en caso de corrientes de cortocircuito de sólo pocos segundo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51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52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D2BA-E1B1-404C-AC07-D77AB12FB458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feld 6"/>
          <p:cNvSpPr/>
          <p:nvPr/>
        </p:nvSpPr>
        <p:spPr>
          <a:xfrm>
            <a:off x="2646360" y="642312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1: Instituto Alemán de Normalización; DIN EN 50160; 20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feld 9"/>
          <p:cNvSpPr/>
          <p:nvPr/>
        </p:nvSpPr>
        <p:spPr>
          <a:xfrm>
            <a:off x="3179880" y="59220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limitaciones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límites de tensión están definidos en IEC 60038 (norma internacional), EN 50160 (norma europea) y DIN EN 60038 VDE 0175 (norma alema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tensión debe mantenerse dentro de un límite de ±10 de la tensión nomina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 fin de garantizar esas normas, diferentes órganos han emitido otras directrices adicion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rectrices de la VDEW para el funcionamiento en paralelo de las unidades de generación de electricidad en la red de baja tensión: Aunque la banda de voltaje permitida en las redes de baja tensión es de ±10%, la directriz limita la contribución de la generación descentralizada con un parámetr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±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muchos otros países este parámetro 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±3%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538200" y="169920"/>
            <a:ext cx="2738520" cy="12859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5" descr=""/>
          <p:cNvPicPr/>
          <p:nvPr/>
        </p:nvPicPr>
        <p:blipFill>
          <a:blip r:embed="rId2"/>
          <a:stretch/>
        </p:blipFill>
        <p:spPr>
          <a:xfrm>
            <a:off x="8238960" y="166680"/>
            <a:ext cx="1454400" cy="1289160"/>
          </a:xfrm>
          <a:prstGeom prst="rect">
            <a:avLst/>
          </a:prstGeom>
          <a:ln w="0">
            <a:noFill/>
          </a:ln>
        </p:spPr>
      </p:pic>
      <p:sp>
        <p:nvSpPr>
          <p:cNvPr id="158" name="Foliennummernplatzhalter 1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5C0-735A-4649-A8F1-0E4ECA39501F}" type="slidenum">
              <a:rPr b="0" lang="es-BO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feld 9"/>
          <p:cNvSpPr/>
          <p:nvPr/>
        </p:nvSpPr>
        <p:spPr>
          <a:xfrm>
            <a:off x="3179880" y="59220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Posibles restricciones en las redes de distribución con generación de energía descent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uellos de botella, limitaciones de tens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Grafik 4" descr=""/>
          <p:cNvPicPr/>
          <p:nvPr/>
        </p:nvPicPr>
        <p:blipFill>
          <a:blip r:embed="rId3"/>
          <a:stretch/>
        </p:blipFill>
        <p:spPr>
          <a:xfrm>
            <a:off x="538200" y="2174760"/>
            <a:ext cx="4680000" cy="4023000"/>
          </a:xfrm>
          <a:prstGeom prst="rect">
            <a:avLst/>
          </a:prstGeom>
          <a:ln w="0">
            <a:noFill/>
          </a:ln>
        </p:spPr>
      </p:pic>
      <p:sp>
        <p:nvSpPr>
          <p:cNvPr id="162" name="Rechteck 11"/>
          <p:cNvSpPr/>
          <p:nvPr/>
        </p:nvSpPr>
        <p:spPr>
          <a:xfrm>
            <a:off x="3098880" y="4924440"/>
            <a:ext cx="530280" cy="134136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22:16:09Z</dcterms:created>
  <dc:creator>Microsoft Office User</dc:creator>
  <dc:description/>
  <cp:keywords/>
  <dc:language>en-US</dc:language>
  <cp:lastModifiedBy>Oliver Rios, Hugo Inocencio GIZ BO</cp:lastModifiedBy>
  <cp:lastPrinted>2019-01-11T20:21:33Z</cp:lastPrinted>
  <dcterms:modified xsi:type="dcterms:W3CDTF">2020-08-08T15:19:24Z</dcterms:modified>
  <cp:revision>3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00E63173FE7C641B44752D79D860783</vt:lpwstr>
  </property>
</Properties>
</file>